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93DFC-BAFA-4A39-B0CA-B169016E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DB919-83E4-4F32-9281-176B2176D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7BBE8-FFB2-40E9-B85B-C8F86562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2915FE-7CEF-4E1D-831B-D9EFB47A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307571-149E-4D63-BF8B-45264F799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1E3C30-03B6-4F2C-8E11-739F7D863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DF919-FBE4-42AF-9EDB-2FEE967E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1A88C5-E383-4FC9-853C-7BB127BED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00F11-68D3-4E06-8446-72A139065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0E721A-883D-46F6-9A1D-11CFB7FD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43BB4F-99B1-4471-8534-5119794C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1B597-4864-4D43-8F7E-AF19257F4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8C93DA-6DAB-469A-B3B3-201587B38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DF07D7-0AAB-49F8-B44B-193E140E9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022536-72C9-42F3-9FE9-D3EBA059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DB037B-CF10-44C2-8C5A-33AB8535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D570DC-4691-492F-B4F5-2460B500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4EDB7F-1682-4106-B8A6-2198E421F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2E6DBE-3336-4C10-9FFE-C48927CF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2BFE66-8EAF-4AA2-9DD8-23E21E312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3A6805-1545-41DA-A301-C349453B3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64620-8E93-4028-B493-154D07B56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9B490-4EA0-42CC-977C-60792C39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EA08D-FE4A-4349-B08B-9AE6F7C37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2F217-9EE7-4B3C-AE35-77E884E9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41EAA-C8D0-4F55-A782-73D09EC1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114FBC-BF91-405F-9D60-0450F60D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C51EE-96B8-40F9-A598-806CF2318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A89525-96B0-4FBC-BE42-7A9E3D00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8E233-6D38-43A1-B702-75596AD34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CA15-8A9F-4E63-99EF-36AD0E9F8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6541A6-0A18-47CE-B83A-D0CE4C6E4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D23C10-91AC-4DE9-AAF6-37C126581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544FBA-F3D5-4925-BBC4-F99D4A862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D52605-8F54-4EE5-A248-94EDB643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EBE30-140C-4696-B185-038BDF65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1111AC-AD5D-4FBA-9C71-0D6FE1FB2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26F44D-0C63-4338-BC75-3A4DDA797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ACA974-24DA-4364-9696-332ED48E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F35555-969E-4FF0-AEB8-1705FF0A2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C13178-019E-4773-8A1D-CC5BF0491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AB56-6750-4013-9BBA-BC050A6C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36DD26-1FD0-46F6-A2CB-DF2FBD1D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CB43A-927E-44CC-8FD8-498E2AD1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D8F559-B72B-4128-89A5-040EE2DAB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A36CCE-6216-4A30-94E9-D3DE7F490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AEF61B-DA9D-4268-AF72-0603E3598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E65E-EA01-40E5-AD5C-CBB05585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46F3-BAA7-4294-9906-8FA86501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0005-B7D4-4267-A0E1-28AE68AED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47C9-505D-448C-9415-A6E1503C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DE50-3D7C-4BF9-BF72-56CA679F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CC8B-AEFA-4B32-857C-E2383BDB7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2552-F901-4466-B09D-F505170A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60C54-B77D-4EA5-B219-29531B587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EF7A-936A-49B8-A388-782771F76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4A80-19E4-4756-A233-2235158A0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7949F-6585-458B-8004-7FA9CBBCD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89ECF-362B-45E3-A47C-E4C6BA26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DC59-0D39-4914-9D24-0423817CD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7D4AE-4A9E-4F7A-BE5F-BC301FFF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10884-79C9-4BBD-B6F6-65CB641F0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0A6D7-23C1-4D7E-A659-CE9C134D2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91464-6099-4B5E-A2B9-B82577B05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64052-1067-4F3F-85C5-B9946BA6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27E0-CFC4-4F0E-8F6D-86ECF3F06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935-FD21-48FA-B1A2-77F6C4B22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0F17D-FFA0-4C3F-AFEA-194E2360A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397D3-9028-4510-A052-F810E6006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2F764-9B83-486E-A9ED-AB83A1D83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964C5-3362-4AD0-AFF1-089150AF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9FA5D-D4A7-4FD0-878F-B13F7BCB9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6F05E7-17DD-4D2B-8A26-C2E5BA09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66A8F-A0B2-4B7D-A143-F535D922E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8FBF56-6912-46E4-9AA2-99166025B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1E177-7B57-4133-8E58-C77F3780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86ED0-40D4-4653-9216-6C3D699F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2377D-17AE-4CDB-8319-C39144B4F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8D765-DC64-4561-AD4B-D0253E72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551B-E12C-45A1-BDEC-0FE726F2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4729DF-A7F8-4D6F-9D12-32CF62B3F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CA0DF-D9BA-409F-8052-68563DE6E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7C14B-0589-4A9E-9B7D-F31D9DB9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EF6A0-7238-41CC-AA84-9E700C5F3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C26079-9259-4458-B18B-30998D1C6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9DCD4A-B6FD-4A11-ACD7-8C4599FF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C07B31-4B0C-4C72-8B17-BC0D93F4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4CD6AE-2EEA-49C8-9056-3E9957C56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C0645-7569-4E40-8CAE-4111F72AC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830850-D5CA-4EF0-868B-36DF3049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B40E5-C5CB-401C-995B-45B44D32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EFE62-A8E2-43C8-83AB-17EF55FBD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2C108-02BF-43AB-92AE-91CD5F3F4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A6EF7-C560-444F-95F2-C08B574B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0792-2B0C-4D7B-BFB3-BC057179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A8EC-323A-43B1-A6CD-9104FE24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6939D-3A00-4FFB-83C3-1ADC50BF8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15127-B59C-4FD0-8F3E-3B48B97E6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26F16C-D1E3-4CF3-9FD2-D28DEC2DD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F40FA-43D1-4EF8-9391-04B5F8EC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804EE9-83BC-484B-AC2C-D978FA56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4848C-00A5-4BC8-81A5-E0EC87CF8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5E8C6-27E7-42CE-844F-82CAB61F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980B75-FD50-4CE9-9DBA-8911830D8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350D5-84D0-4619-9E91-335153744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C0E2-CC5F-4C01-B640-98F01F47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FE318-C4B1-4B4E-8012-3DF48E02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4E39A-9021-4EF4-BA1A-767C35C2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9D27A4-F4DD-4AD6-88AC-DE5A8834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0B239A-3F14-4887-A509-BF9C6050D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34CBB-E31A-4DC5-9A83-8714B536B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6587D-46DC-4081-ADE8-61991993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FBB985-A8A9-42E1-A8B6-66FADF2D0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72012D-7C3F-4ED2-9A3E-8236BCD4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DDD25-0F0B-4E0D-A4EF-69DDC056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9341E0-800C-41ED-80D4-481D1141A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961BF-D443-424F-9B1C-5DF42575B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A2A16-DE2E-4736-88FB-43FD6B80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5E1FB-5293-4CDA-9EC1-8D86AD1F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67E49A-0AC0-426B-90BC-58286A7D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DB5E70-F778-4206-BBCF-1728DA46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F0205F-D589-4246-8CC6-CB2A36C4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8967B9-D441-44BD-8858-AF411E627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67F68-5B62-4DD5-ABC3-3E5B8FB0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BCE1D-F381-47D4-B85A-94795FC2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DCE269-E497-4C50-8D0E-3AC3A057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707507-F6E8-43D0-9CA4-95F69A749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018EA-7B45-40A9-858A-46953208C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22158A-4E40-4338-B8CF-66B155984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A1BE5A-CA0B-411E-9AD4-8FB8B876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9490-550E-4E30-91CA-A68F6B3DE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A832C1-4A07-4436-9442-16F4CAE09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B06C-074C-4FEC-895E-6792AC13D7C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AACB-7ED3-4172-8C8E-686F48AF9AE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FB410-74AF-4F52-8E5D-2A01C5DBE1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5B7E-1DA6-4D11-90BE-B7E55C34722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6E904-124E-41CF-8F8B-F6C1206B66B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22B0-12AC-42F9-A4EB-73269174F1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CE365-B6D1-46F8-A586-0851A95088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CA57-EF4D-454F-831D-42D0A7CB61E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ACA6F-E699-4C10-88A2-B81DD075DB6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02F96-5297-486E-8821-B3B7B1BB684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88" t="0" r="0" b="25171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CDE5E-FF79-4776-8239-83D2AC99C69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1643040"/>
            <a:ext cx="542916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609480" y="2214720"/>
            <a:ext cx="7961400" cy="26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895400" y="500040"/>
            <a:ext cx="5391360" cy="60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1643040" y="660240"/>
            <a:ext cx="5786640" cy="531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\\genesis\Mission\Refocus\Refocus Images\RefocusLogo_NoStrapline.png"/>
          <p:cNvPicPr/>
          <p:nvPr/>
        </p:nvPicPr>
        <p:blipFill>
          <a:blip r:embed="rId1"/>
          <a:stretch/>
        </p:blipFill>
        <p:spPr>
          <a:xfrm>
            <a:off x="3786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2" descr="\\genesis\Mission\Refocus\Refocus Images\ManWithBoard_Blue.png"/>
          <p:cNvPicPr/>
          <p:nvPr/>
        </p:nvPicPr>
        <p:blipFill>
          <a:blip r:embed="rId2"/>
          <a:stretch/>
        </p:blipFill>
        <p:spPr>
          <a:xfrm>
            <a:off x="357120" y="428760"/>
            <a:ext cx="2500560" cy="333360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3" descr="\\genesis\Mission\Refocus\Refocus Images\ManWithBoard_Red.png"/>
          <p:cNvPicPr/>
          <p:nvPr/>
        </p:nvPicPr>
        <p:blipFill>
          <a:blip r:embed="rId3"/>
          <a:stretch/>
        </p:blipFill>
        <p:spPr>
          <a:xfrm>
            <a:off x="2286000" y="2500200"/>
            <a:ext cx="2982960" cy="397692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4" descr="\\genesis\Mission\Refocus\Refocus Images\ManWithBoard_Green.png"/>
          <p:cNvPicPr/>
          <p:nvPr/>
        </p:nvPicPr>
        <p:blipFill>
          <a:blip r:embed="rId4"/>
          <a:stretch/>
        </p:blipFill>
        <p:spPr>
          <a:xfrm>
            <a:off x="5857920" y="2595600"/>
            <a:ext cx="2911320" cy="38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43:21Z</dcterms:modified>
  <cp:revision>10</cp:revision>
  <dc:subject/>
  <dc:title>PowerPoint Presentation</dc:title>
</cp:coreProperties>
</file>