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740B26-B3EF-4245-A4E6-89FB4E8A2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6F1BFB-3A14-4A71-BFF2-F319392CB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675F7-7C92-40E4-A5CA-3007C4E9C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EAE37-1A02-467C-B861-EFF5880B4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F7329-8CFD-44F4-B459-BB005DFB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B1E64F-E08C-4A03-8429-47D0524F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AA4142-5112-4A6D-A5B3-059F47352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8112D7-F858-40DD-A920-D7529907C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BEF607-06A2-4BD3-B4B4-930C4EAC2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3329D8-8871-4499-9328-BD79AE42D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ECC15E-88AC-4DAC-A149-0E98C2E9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C81DF-A249-4A32-94B7-C0BD509D5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67443E-678B-497E-BFD8-F45D0DC8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58C89C-7ADD-457A-AE14-FC1A0171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B2C894-753F-4596-9C42-66474A322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950CEC-D1ED-42B8-AA19-327E345E9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7664E0-2EE9-44BA-90EB-C05FDEFD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A4A87C-288C-4D56-A997-2378F555D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544485-FA5E-4777-AEFA-ABE14BF07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ECE7C-CE7F-4A5C-8921-5100AD8A3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D13F6F-337A-424A-B236-E6388ADC4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4141A-1EB7-4072-9861-A90DF1363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57625-FF29-4BF7-8A7D-1CDA3990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E41FD7-6721-4137-87DB-D660B6A7F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156C0-3CC9-41CC-8D2A-0CF8808FC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1B3EDF-C8EC-4210-9991-89F24A227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29991-94DF-4E61-8F49-418C1B65C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CB844C-6B9E-4A0B-B7B1-C3F9DDE67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B5FE1E-6997-4EA8-8FB1-F73E9CD2D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A725C6-2C3F-4E7F-9845-946D021EA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BCBD-D393-419F-840F-8A1C76BC6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E17EA-302E-4206-B8C6-89D5F8BE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7AF88-98D3-4D48-8795-79337FB6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E6924C-6797-4C23-9F45-0C746B544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197655-635F-4F7D-90BE-7987EE7C4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B516F1-FC91-45C6-9E98-7E38076A9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B565A8-8A02-4E51-8C0D-06241F84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48225B-6F99-4D8B-BFC6-FB55A327D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0B21F-227D-4A2F-AE34-7F0EF5CA9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8C6EC-2654-4C78-A7DF-FA1D7072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26F0D-D82A-407A-8C61-4D2B55D1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5FDC-5219-4488-B345-7B36DF0C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8D8746-297C-4755-B3A8-2A7AFEB9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859D26-1A84-44EE-9966-CE5E1788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53086-63CE-472A-AC24-0421F6C3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587214-7AAC-4EEC-8EC3-CA5E8F53A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31175B-8E69-4C3B-B38E-BB4036161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B403-9858-4826-8D78-DCCAC780E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C777-557A-4FEF-8C56-9BC50B83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35C20-143F-4290-B58F-BA123F70C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9894-3DE0-416F-8D41-DB778BA9C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0CC9F-1374-4A2E-B468-7C0CD554A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0D5B-5118-402A-953D-3BAC7705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7B3F-2AA7-41CE-9673-8566017F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0CE7-F587-4A40-9AC5-4479C95D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2D0D-19B1-4C26-B9FA-896F0438C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F6C1-A404-4BBD-8269-AF674E728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6C1AA-E160-40A2-A823-24FCDA81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16BBC-B4B9-4004-BAF9-2D72E196B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12CC0-CB83-4B1C-8726-4F8CA3A60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18E66-87A2-446D-B618-2E2EA71B2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C124-17C3-4081-8C8A-1A69A705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3E020-B99C-432E-9F63-8F19A3C3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65BC-86AE-4A4B-B88E-A540D0E00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8307F-E5B9-40B7-91CF-35001CF1A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2FE7-95F1-4A53-BE69-91E45EFBA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F4DF-5506-44B5-90E6-CCE702868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78CA-0165-4CEC-A446-D2CB72941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C8758-9105-4F58-A37C-21FC691D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0C58F-2896-4833-9729-7D96C88D4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2D9D45-209D-4566-9986-4AD8291E6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B4C7-21F9-41C8-88DE-60C27307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7EA3F4-462E-44DA-AEA5-AB4DB0D9B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6428F-E35A-4359-A9F3-5AE0D67A6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78E0A-342A-4A29-947F-DAA5DEB77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00799-6C3A-453A-B3FD-072D85DA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D68802-B6F4-41F3-8DC1-AE9AC662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30CF4-E50C-45BC-8A03-6CB61714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E236A-291A-4A1A-A9E6-BACA06B26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98A2-8574-4653-A49F-5E54B5180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70156-8DE6-4A34-B840-BBE71361D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DE007-90EB-4080-9616-BA10F58F8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31D71F-4EBF-4218-BAEE-B8581669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CFEF-FF56-4C72-AAF3-58159880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8C3B1-4493-4CF9-B8AF-293874C89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D2914-7F80-484F-B7DE-2EF2C7B7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AF3AC6-8A21-4D22-AD68-B59E1B6CF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AC3EF-BFE9-42E8-8082-D6D881E4E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F5A549-E3C6-43F4-9CB5-8A85F873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6B720A-672F-43B7-A14A-94E2C1B48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2963C-2018-468A-9D67-C98FD16B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CC395B-2D50-4153-B102-17601F053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33C52-092B-4E9B-9AA4-CE3D83510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C6F16-9D04-47AB-BDD5-12836383A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932C-3352-4CEC-A8D5-F1F2F8B5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8760C7-2D4D-4DE9-B9C6-CC2E999DC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7F4AD9-C810-4D94-A3C4-E558DFA2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70E75E-45C7-43D8-B7B9-4BC4E670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E6926A-0E72-4741-96C8-50BA52BA8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D33C8-9667-44C8-816C-E628CE87F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D94900-CA4A-4F1D-9EAF-149BB07CB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37CF59-55E3-48D5-893F-A3F19341D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B1A82-2B36-4B73-87B2-AE6A55FEB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B4B78-0BDA-4559-8EB1-8228BCCBC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98C045-3FBE-458B-9E19-6ACE6EE70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E6EA38-7632-45E3-9EBA-92E04B185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B2593A-90E5-4437-AEAA-DB4F561E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7E0F9A-CB8F-4871-85DD-07959A5A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76FE1-3121-4A4E-A3EB-B1BA086C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D0083-D645-43D2-B0C6-BDD24B54A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2BF14-394E-4343-B934-270431A67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3CF14-37B6-4271-B4DA-D35E35EA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E7F77-7D70-4F52-8EC9-B02807DF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F7ED2-FA07-4385-842E-F64CA6E3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9CF86-2435-4257-810D-2696CB37B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C837DB-D374-45E4-83CC-B9B9DC85A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5F8658-4B4D-483A-8551-96869137A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1A51B9-1F50-456C-AA9A-00C37D7CB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D9AB96-ABE3-4192-AA35-9F75EE00B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4D1CC3-0552-4124-B83D-5E471D5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475BC-4E51-4CF1-9B68-3C92F70FE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30D257-1EE7-4750-BEA5-404B6F98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91385C-842E-4836-8FE4-E9DE392E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BE7AAA-FC6A-42C7-81E9-45E23CB8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6ECF94-3CE9-4D6A-B4F2-03A208D4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7CE72-6152-48AF-A08E-529F59B76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74984-379A-424E-8F05-E8CE8AF3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9B1EF7-E17E-48B7-9ED2-72B41288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E42C6-1DFF-4E66-A7B4-B9A307FAA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19681-98F3-4240-86E8-25954D172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9BCF2-B434-494C-A90C-689C4AEEC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6CAB0-D38E-4A2B-9807-0CC1DCBBD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C1269-C29A-4983-9483-13C5B13EE1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3BD5-06AF-4EF1-8C96-359A91DD876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48025-90DD-425F-BB4A-1619BE0A326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05F9-C183-4BA9-A49D-875D10E02E9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7416F-CE1C-4AB5-8CC8-143E10E92C1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0693-F9BD-40A5-99A1-E820724DF5E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221BC-18E3-4D34-9A4C-DC505ADC24E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186D-5704-4F5D-A67E-78C8DD8598C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DFEC6-2248-4102-8D8E-FDF9CB596AA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6F3A8-3809-4204-B22C-C9864BA2E8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025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Rectangle 1"/>
          <p:cNvSpPr/>
          <p:nvPr/>
        </p:nvSpPr>
        <p:spPr>
          <a:xfrm>
            <a:off x="0" y="6010200"/>
            <a:ext cx="9144000" cy="84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Picture 13" descr="RefocusNoStrapline.jpg"/>
          <p:cNvPicPr/>
          <p:nvPr/>
        </p:nvPicPr>
        <p:blipFill>
          <a:blip r:embed="rId2"/>
          <a:srcRect l="12562" t="0" r="2808" b="25158"/>
          <a:stretch/>
        </p:blipFill>
        <p:spPr>
          <a:xfrm>
            <a:off x="0" y="6010200"/>
            <a:ext cx="1461960" cy="86364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P_logo_8.jpg"/>
          <p:cNvPicPr/>
          <p:nvPr/>
        </p:nvPicPr>
        <p:blipFill>
          <a:blip r:embed="rId3"/>
          <a:stretch/>
        </p:blipFill>
        <p:spPr>
          <a:xfrm>
            <a:off x="7273800" y="624204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873FD-A627-4C67-A85B-D90FC716220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1" descr="TCWS1.jpg"/>
          <p:cNvPicPr/>
          <p:nvPr/>
        </p:nvPicPr>
        <p:blipFill>
          <a:blip r:embed="rId1"/>
          <a:stretch/>
        </p:blipFill>
        <p:spPr>
          <a:xfrm>
            <a:off x="1471680" y="536400"/>
            <a:ext cx="62388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4" name="Picture 2" descr="TCWS2.jpg"/>
          <p:cNvPicPr/>
          <p:nvPr/>
        </p:nvPicPr>
        <p:blipFill>
          <a:blip r:embed="rId1"/>
          <a:stretch/>
        </p:blipFill>
        <p:spPr>
          <a:xfrm>
            <a:off x="1428840" y="536400"/>
            <a:ext cx="630540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1" descr=""/>
          <p:cNvPicPr/>
          <p:nvPr/>
        </p:nvPicPr>
        <p:blipFill>
          <a:blip r:embed="rId1"/>
          <a:stretch/>
        </p:blipFill>
        <p:spPr>
          <a:xfrm>
            <a:off x="1536840" y="536400"/>
            <a:ext cx="610704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Picture 1" descr=""/>
          <p:cNvPicPr/>
          <p:nvPr/>
        </p:nvPicPr>
        <p:blipFill>
          <a:blip r:embed="rId1"/>
          <a:stretch/>
        </p:blipFill>
        <p:spPr>
          <a:xfrm>
            <a:off x="1577880" y="536400"/>
            <a:ext cx="6026400" cy="438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0:25:34Z</dcterms:created>
  <dc:creator>Mary Parker</dc:creator>
  <dc:description/>
  <dc:language>en-US</dc:language>
  <cp:lastModifiedBy>Mary Parker</cp:lastModifiedBy>
  <dcterms:modified xsi:type="dcterms:W3CDTF">2012-01-16T10:41:24Z</dcterms:modified>
  <cp:revision>3</cp:revision>
  <dc:subject/>
  <dc:title>PowerPoint Presentation</dc:title>
</cp:coreProperties>
</file>