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28EB02-6E76-4E71-97A2-134876078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09BD71-B1A3-4447-A9C7-048BE55BA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03A4C9-469C-4F27-9185-25FC6E02C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6A3526-588F-4612-8BF0-4BAC894F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1905D9-6D85-4579-BEE2-FE3F4EE0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EABFEF-B4C3-4A0A-BD4C-097888E2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E4995C-7857-440B-B588-DB4BF310C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7C18E9-EA67-4ECD-B7A1-6D817A9A9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8F6763-059E-44B0-9A0C-724FAF653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627973-2122-4BE4-B281-7B4E51025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390CBE-E12C-4286-8DC0-D0CFD92A2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583E21-A48B-4483-9F49-BDC96E52A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CE28BF-D85C-40B4-8E12-AF75CC711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3F347D-238A-483D-B36F-2D09CC7BE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36BCBA-66C4-4F97-8126-69BC42AFB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9B21B9-6583-4F56-9D32-856ADC22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71FE71-7915-4859-B5D2-3C44ACF2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6E71F7-3B99-4948-B907-F0FFE432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2A3F39-9C98-4E7C-9FB5-F2091DC91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1C50A2-5E3C-4219-A344-B6AD544D2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316053-50B9-4F45-8F55-F66D202AB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4E032C-6B0D-46C7-AE91-6DB6DE7D2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5BB601-AA01-4740-8970-9AB66BAE6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0FE3DE-BE79-428C-A97D-E211D399F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C3D912-30F9-4061-A9F9-9F67EE6F7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FF13A1-D8CB-4605-91C3-9A33F0874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5E9CF3-C742-4DC3-BB67-42FBA922F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5144E9-10F5-451C-ABF9-2C02E516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FA1050-523D-4508-B504-8D43A4563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CAADFC-75DE-415A-9ADE-8C7EAEDD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D1C15-7992-4666-9446-8124CA542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F2D9EE-3508-42F1-8FA9-731B3A6F0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0D6BD2-F06F-4F88-8FF3-5D42C8B85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A81642-92FB-401D-A57E-F573EEBCB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73C019-2D4B-4A5F-A737-E49D57DCD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93BC6A-1FE4-4262-9159-6109E162A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5306A4-F364-427E-914E-8B542F891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902535-D304-4FFC-AF19-F36C1F8BA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12FD57-990A-46C5-8C5F-E2EBF18F6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28D0C2-3978-443E-B7D7-95BC92D09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464FD2-3C1B-458A-933F-DC28974E4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DEDA-8FB2-4A2D-86DA-10C9FDD03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F970A3-1D58-4405-98C2-1CDAEDC2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DBE8EA-2263-4B4F-B03C-B06D4098A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C17328-4C22-44A2-B1C5-837FF0B19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E61704-7C97-4A55-AEC8-93B95B4CA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86692D-A7E2-4C2F-A7BC-1D5D99BAF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99D6A-75D2-4D15-8220-301822752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112D-93EF-40C7-9ED0-36C004AF9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FBDC-2C5B-462B-92F6-10D629818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FE64-3133-402A-B9F6-ADD2D62B4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0399-1C73-4198-BA68-BE2E2AFA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EF62-90F5-4070-BD05-EFF65CEE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B320-C2D6-491C-95D1-C471D5384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0583-54A4-4C7D-B8B2-FFEB62A27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8CD4-4435-49E9-AD86-270288182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1CC6-4E16-42E8-8B44-2DD448E23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2B945-CCF5-47D3-8C50-665C7FF8D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453B2-044F-4992-941E-2B3159E3B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382F0-B547-487B-90FC-F307F97D6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52088-5D4F-481E-A243-5C9B51D06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CFD12-1D65-4A91-811F-D9E835F84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0890E-4501-48DF-B051-E40957A01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11FF7-7129-46FC-810D-AE53C77F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C4052-6FCE-4059-8107-F08C0EB13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BE160-3F01-4DB4-BFE8-A1FA2F160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A9961-F533-4079-9A75-B42D0FAF0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58BE0-65CE-4403-A1DB-39A6D9275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BB596-D8D8-4301-A5F4-6AD7219A3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49910C-EA79-4C3E-A560-F27783033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DB872-B396-43DB-B7F7-C48A2D3F8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CC53FA-52E5-4B36-BB3E-24E61F7F4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1FEAE-E43E-4E6B-94DE-D005FC079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0F446-6A05-495A-AEDE-267CF57E2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53234-4772-49C8-9132-8625963A9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CB79A-342D-4658-BA07-643EBE18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A63CE-9056-4F4D-8F97-96F19921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E3CF9-53BD-47F3-BF85-3F9B32E6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90573-3CD3-4194-AF08-F31B14908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361204-41D3-46D7-B8E6-62A005D38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761DC-9092-4411-B7B0-995BE7427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A97D07-2C02-473E-A3F2-97EAFD71B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5E122A-44CE-459F-8B0E-DBFDBF8A2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2F9F31-5630-4E2C-81D6-314849168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5F439-E227-4817-9D3C-4AFA514B3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080A9-48F1-4C73-8D7A-558F43C64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2E4F6-8109-457F-8E61-7DAFFB31A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57054-C2C8-48D2-9F0C-A439349E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FFC4B-B3ED-4E17-8254-EAB027FB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FABD3-029D-4F95-8611-22387661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F28F8-9FB9-413C-B91D-E60058D25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78A0AE-D725-4F8F-912D-ECABA7441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6EE4F-8CBC-4DD1-A9E7-B914D7A1D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23339-0B0C-458E-B5B4-6E0C94EED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D7351C-F94F-4432-97B5-7589F9FED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D6967-CBCD-493E-9F5F-7F0064437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9128E-CE04-4115-88A8-AD17BCD8E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9E1A7D-91B5-4FF0-8F8C-06B51901E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7E635-8383-4E7E-9FA6-89D839701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1AE8C-CBFC-45CE-84F4-064C48C46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CC2F8-81F6-413D-A216-A02BA1EEB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9BE2E0-BF78-40D2-82F2-F0EF7F8BF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0E9CF-D80C-4F9B-AE5C-70CD56BF3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2E4C97-195C-4C48-B98A-AAA344DE5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537DB-30C8-4513-B015-19027A9DA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3CCE8-5BE1-4979-BBD4-934879741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704A47-2B65-4870-BE7C-84D09C83F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58861C-528F-4DCD-9A94-BE8E790D9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F2BE8-2C6A-4254-B0C8-463346673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41E98-D7C9-4F8C-8313-52A9FC590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57C638-DEC6-4E08-8EC7-6FEEAA983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EE1BA6-3AF7-4554-8AB2-7DFEAA20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CBF42-5FA8-4F0B-B4AC-5CDA457C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6CB52B-341F-463E-A773-0FBDE6D9C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C79BB-6635-4DB9-8939-FC712B462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8B67C1-63D3-41FE-8018-56093C145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096D8-11D7-4B63-B94D-CB2BC1756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ACAB8-0615-402E-8CFC-19109F73F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29496A-8F4D-46CB-B9CB-ADF8849E7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510271-5131-46A9-B4B8-EC9FF2F5C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475A4D-E76F-492D-896C-60F0D5079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040B70-85D3-4E1A-A888-A8F0ADB36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CB9472-CFE2-4CD0-AB06-67A3E5E32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906D7A-96B4-4133-BECF-A90771CD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655B41-6BDF-4A70-B346-60A26352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F31D43-35FA-46C3-9B93-5DCD15AD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F1A5C2-01B9-4630-8BBC-23304B3D8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93AA0-D6C9-4318-B1F7-DD4B1A180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C1F7DE-ADA0-47B4-8328-B75C13218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476480-7611-46C1-9E33-3DDF2597E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2CA7B8-147D-4499-A3A7-3B802D8E6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68F435-779F-45C5-9267-EA72A1E36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A0FA0-F81F-4E61-8C59-2AFC03B16C1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03DCD-30E3-492E-86BC-F8B941A84DE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6C795-7BB0-4603-8C6D-992CD2D9550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A1029-D160-4302-B5FB-2270737EAF9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8CBB4-160C-4231-8843-8E0C524B2A7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54375-60F6-4FC9-876E-CA9B1B3ECD7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02310-E52F-44FA-ABF0-C04D7F09FA7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B638B-BE7A-4174-91F8-B85E85F95E7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8D240-C3A8-46F6-A542-D75065AF3CC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9A825-6917-4780-81D9-DB0261081AD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F0B59-88A6-4085-B980-66CD87A54CD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Re-imagining the Churc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Nehemiah 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395280" y="1916280"/>
            <a:ext cx="8353440" cy="56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Lessons from a Great Leader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1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Listen to the voice and heart of G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2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Establish a clear sense of purp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3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Develop a practical strategy for                    achieving his purp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4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Action - individual steps enabled his purpo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1:38Z</dcterms:modified>
  <cp:revision>12</cp:revision>
  <dc:subject/>
  <dc:title>PowerPoint Presentation</dc:title>
</cp:coreProperties>
</file>