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C23950-19E9-4BE7-92CB-6D3D722E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65C3CF-F387-4FF6-AC41-486DB398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E145C-488C-432B-8F7A-50CD1511F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FE0EB-CFB8-4C65-9C85-0660BE992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E8FE1-8AAE-4E21-A516-2E059CC8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4127A-7957-4AAA-8F9D-F7334BC7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2AD5B-E48D-4EED-A051-C44E10C5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3E6C4-4104-464C-9C93-9FE40B99F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9251EC-EEE8-40EF-A455-106078815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288BA9-77D0-4DC7-A9F5-9EBDE642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1FD48-151A-4622-9997-5D2864FA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D15D7D-1F76-4908-BC14-A4F173ED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FAAF8-A147-4C87-9C22-69B4DBAF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C439BD-8D9B-4924-90CB-865FF699F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F13E08-EF44-45E4-B1F5-A13425C91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8F832-7701-4948-8D82-A000371F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4FC8C-8A14-4D45-848C-0E3A7B78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46933-BD78-4320-B68B-8D532EBE3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923AE7-A266-40C8-AF2B-BE9BC9127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15180-4202-45C1-8600-E9FEE0950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1DD93-2F44-49AB-8D7B-99EE0530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B5CB8-ED94-49D9-88C4-FAD0915B5A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C91DC-3402-49A7-AF0E-52AC356D9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970956-93F5-4144-8A7F-C7A3A1931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693475-70D5-470D-947C-70590A993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FCB902-CBC2-4F1B-A67B-8DE815EE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43E639-4884-475C-A0D7-034B6750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72617-36D6-450B-8251-AA4A197AA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83D525-B083-449D-934F-7704C09D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BF4C0B-1D7F-4FA4-B8BC-23C1D313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F21-6CA8-492D-AF49-FA21F9D4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CE6F2C-E756-4413-AF59-16B4A6928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9B7522-A4ED-4A9E-914C-9EC484ED2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4FA46A-A9D4-4BF4-B0ED-5E93D4299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EA46F-B153-408F-AB7C-7467674A7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2C53F-4E26-4E50-BAA7-989A613A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B096D9-4522-4F3E-A6FD-026B191D0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670F70-7644-43A4-8214-301BE3C33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7D7CED-9A26-491B-B1AC-0AA7D1F22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B3E5F-D0D4-4694-B58D-9E363CE8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4DE4F-A132-42AE-81E6-978471FCD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547C-EB5E-4F60-A634-3082510AA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8C5B87-9230-4B3F-9DA5-1B27C64CE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430E3-4D4D-497A-A14C-E88EEF8B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ABDA4-CD25-4D56-9CDB-92B33246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E6EDD7-2675-4754-8832-75161ACA8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7A4568-18FB-4ADB-9E22-492782ABB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7734-6AF3-49BE-8BEB-06AB8CE85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8BEF-A95B-4742-BB8E-659FA9CF2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F091-07A8-4AC3-A766-88FC4A2C0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C7A-0972-429A-A0CD-D83E0C2BB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5A7C-B3A5-44E4-98CE-A97E25F9D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9209A-F7BE-46AA-825C-7D40D2DAB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4E48-052A-46F4-B26F-E40532B2A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56B7-7E72-4AF9-9D4F-857F7428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DB75-4780-4118-B21E-11975EBC8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A87D-366A-4A0D-8D14-F3746063B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64ED-E5CC-48A7-B323-C0A5EE50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FA330-BB93-4E43-86B9-8E568DC25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423C9-A26A-47E2-8893-CD7C948E3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B029-F0FC-4B51-971D-EA6E0AD81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1B5E8-9612-4A34-8277-4712DE57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A6CFA-D44E-4A6D-A11A-D6773F76E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3F8B9-0A91-444A-AC2C-2F36B714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5D053-74F1-4D1D-8FE2-5A327515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DAF1-5B14-45F3-90FA-89644C60B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ABA2-B1FD-4499-8DCE-DF4C47734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47DB1-16E4-4CF8-BDD4-CACC6549E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7207-F9E2-4DE5-BD18-3DB61408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63734-8C86-4432-A5E8-031BA6291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2D1FD-DDAF-4ABD-B3C6-AD457CCF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B206E-F2F0-4873-AB22-1FF037E7E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43344-8707-475A-9F71-14FCFFD73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589A-B21A-41FB-8376-78A755CB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5BA01-BA9E-48E1-9F82-32D37699C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1011A-B735-4AF5-A861-E4F42A0A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453B00-11F7-47C1-856E-B519EA74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D102A3-4778-4B36-AB45-23CE7B6EB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53BE9-A552-41F3-9E15-2B88E55BA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2FF17-D088-4768-B4A6-7150B8A06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A2BE2-39C4-4FF5-81EB-A94377F0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17E3F-644D-4F44-8E31-797167D94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C9F80-D17A-48AE-BB57-A193BF0E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606906-DFC3-41E5-9D71-3EF96EBAD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73146-0310-402C-8CBF-B59B98E48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ED933-3BBE-41A7-9BBB-0491D2ADC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EC595-AAA4-420E-AABD-E305BDEE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C9271-4E51-4DB1-9C3E-AF1563FF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3D540-4552-493A-A607-898D71C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C1C6F3-5576-443C-B25D-9C68CBE87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6DF92-1D11-448C-AD57-B2392D25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2E2ED-E740-45E7-B672-9952A7BD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D9501-2022-462A-A808-ED119165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0BA410-5000-492A-A15F-D9AA5F4AC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974F8-1490-4827-B9D3-0A62870A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34AA53-DAAA-435C-9C49-C361D423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91A580-000B-49F7-AB11-9A30BFABD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27E54D-A496-4CF1-9DDB-9BB872C7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49F52B-FD50-424E-9EDD-77892B176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77EE7-1ACE-484D-8A7D-DCCBA92AE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CA42-6408-4BB0-9C04-FB861F8D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6566CA-63E3-4A92-96D0-D0727C99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C7F90-D62C-490C-9A7B-950CA536C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1F34-A1B4-45BF-A6F2-A8BE39178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0930A-A32D-41BA-ACF9-49D252326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F92EA2-5C00-4ED5-894A-C56034698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71312-8415-4451-8B84-13D1DA8C6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86B694-28F6-4C13-B490-262F7246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AAB9AA-882E-446E-9613-59EB53E2F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F28E9-8F0D-4DF0-80B6-09B7CFB4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63A924-F59B-455F-8F9F-C59FB3C9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840A0-BAEF-4D59-B776-35525EB1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F05C-03D4-42BF-A21B-CCBE9A8A0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EE40D-3BE4-4CFC-89D2-D2614708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A38197-6B05-4F5B-A2EE-3479C23C7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AD711-F759-4533-AE4C-FFC801B8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B68E6-3C4B-4B33-BD95-3C1E15150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42B865-7886-42E2-A09F-82C911B75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721ACF-0AC8-4778-BCFD-E8D1C3951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669656-8469-4F84-83CB-7995FA52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97D5F4-4FB4-4A95-BF67-C4D2501E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693D9-F6D0-4F23-A365-EFFDFE7E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B6DF0C-FC3D-4453-874F-7432AEEC5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5719B-5B81-4455-9CC9-400B19C68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15A158-381D-4D6E-B4E5-AF0120628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E9CBAB-F247-41CA-8E3B-7B4E52ED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CDE38-5B36-497A-842E-EA8816EA8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584FB8-E2F1-47C7-B086-A36766D62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B3C06-D59A-4E0C-862C-D48A6C74E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83649-949E-41B2-BDB8-AE18C1A82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B79EC-856B-4052-B385-D47FDC1F6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243BB-854F-4D4E-B7E2-E03C2A6EE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A2B0-0B4E-426C-91F9-77ACFBDF3CD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156EE-61E1-46A4-8430-C88414DC6D8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6F18-E411-43D6-9C29-EB8327F2FE7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240B-8A3A-475F-9FFF-64140F3ECBD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822D8-6B67-4C87-AF9D-FFC7E284FB4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03A6-F22C-4034-9BFC-762479BF8D9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A3D5-CFA9-46A8-A0A0-D21A0D1AC54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D0376-2094-48E4-A1E2-EB367A3D0A2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87EB3-0409-4B62-8336-4784BF9917FE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BAA78-9F99-4E7E-9E1E-ECCC71C1A36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73E0-DE92-4872-AA6A-1CA541FD736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95280" y="1844640"/>
            <a:ext cx="7856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Relational Factor: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He says count conversations, not just conver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2 The Narrative Factor: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Listen to their story; share your story; share God’s story; not just propositions or formul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395280" y="1844640"/>
            <a:ext cx="8353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3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Communal Factor: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Expect conversion to normally occur in the context of authentic Christian community, not just in the context of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4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Journey Factor:     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o see disciple-making as a holistic process and unending journey, not just a conversion ev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395280" y="1844640"/>
            <a:ext cx="78566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Holy Spirit Factor: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lieve that God is at work ‘out there’ in everyone, not just ‘in here’ in the chu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6 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	</a:t>
            </a: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Learning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part of your own discipleship – not just the other person’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Sharing the Message of Jes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John 4:1-3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TextBox 5"/>
          <p:cNvSpPr/>
          <p:nvPr/>
        </p:nvSpPr>
        <p:spPr>
          <a:xfrm>
            <a:off x="395280" y="1844640"/>
            <a:ext cx="7856640" cy="40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Missional Factor: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recruiting people for God’s mission on earth and not just people for hea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99"/>
              </a:buClr>
              <a:buFont typeface="Tahoma"/>
              <a:buAutoNum type="arabicPlain" startAt="7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41440" indent="-541440">
              <a:lnSpc>
                <a:spcPct val="100000"/>
              </a:lnSpc>
              <a:buClr>
                <a:srgbClr val="ffffff"/>
              </a:buClr>
              <a:buFont typeface="Tahoma"/>
              <a:buAutoNum type="arabicPlain" startAt="8"/>
              <a:tabLst>
                <a:tab algn="l" pos="36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  <a:ea typeface="Tahoma"/>
              </a:rPr>
              <a:t>The Service Factor:                      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ee evangelism as one facet of our identity as servants to al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24Z</dcterms:modified>
  <cp:revision>15</cp:revision>
  <dc:subject/>
  <dc:title>PowerPoint Presentation</dc:title>
</cp:coreProperties>
</file>