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D14D1C-236C-4D5E-8507-32B59FEBD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B4895-9AAC-49EC-8467-509FE72EB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FD208-4AF6-4797-86B0-3F44355B3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F19486-76F0-44BA-80AF-59EA5F18D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27A32-4D35-4040-A431-B89D1B27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4416C-E25F-4795-8F66-23A8C596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EEFB6-7F25-4D76-9E21-04FF167B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B2BBCD-D934-4A64-979E-C2C8DDA34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E0603-DCA2-4B73-9934-F9017EAA0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F2CA9D-ECAB-4367-9913-55BA7D5B5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850D9-7B8A-4947-8BEF-FC68915AF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04A453-03E7-4D73-A972-13E0518E3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9C5B87-DCDD-40FF-A2A2-2FB4814A6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472D3-0E9F-419E-ABE5-5C6B503B5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04009-5058-4458-89E8-A82428F06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EE1B5A-006B-4096-9163-8F6410E6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54457E-C926-4DD7-979F-7BCF7751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ECCA49-75A6-4583-8463-29E31BFE4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593BB-801A-4658-ADAC-7171B094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F46D0-0986-4775-B1DD-04DA36028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326E12-2420-449C-B3CF-73E2AB10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FAC87-C398-4D9F-8DEA-8F8C595D1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F2162-AA48-4496-9E33-10ED6717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2365BA-5BEB-4BCD-B170-BF537EB6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F07E1D-1B78-4405-9B04-AAAC6204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0DECC-91C3-4573-9272-7F6F1A0E8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888294-081A-46BC-9A10-8AAE4183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B9171C-780D-45E8-AE72-B313995F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27F42-43E3-4E85-AE32-9BCFCE5EC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DF0D7C-D2E1-4296-A857-B34AEC2A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8452-DF83-4956-9DA4-EA6B8CD2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6066FB-3711-47C6-9EA6-71F4CAE2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1D6F08-0E52-488C-B5F9-370FDAF2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2DCF25-A239-4105-A0D9-C76C4F09A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26CE62-0D61-41B9-BF93-9011C421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DFAFA-1F3C-4E7B-BDFA-950A5789E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099F17-E571-4141-B426-0B1666C66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A74C93-8F25-4798-8041-3A68C2FE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5850C8-AB82-46C8-8B7E-C59482B2C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7DBF8-5A72-40B6-A247-4824199A8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2E2616-B398-4C92-8D50-671C68B1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683A-6D2C-438A-8A9A-881B42E5D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E76F7-FB4D-48B6-AEB3-761C8019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6E884F-D16B-4F52-8D84-BAE9DEDE5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E1039C-4139-4E85-BFD9-D861CB50E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6FDC3A-E527-43C5-8A31-090109C51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09F34-AAFC-49D6-8F91-7120F323C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1493-8FDE-4D2B-A6F4-2229AE2F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B39-619E-4DD2-9E8E-4BA856091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AE22-BCA9-451E-ABC8-054F3563C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9AC-31AA-4D34-8725-B58C0BBC1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87B-7C5F-49D8-8B37-36284969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BE8-D9FF-402A-B044-CA32481B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C35-45F2-4A55-A0C6-31BADBCFE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00D5-961E-4DE2-AE9B-A881C3E56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ED12-59FD-4EAF-97B8-6BA592FEA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750E-7289-4C92-A3A6-0B91DE31E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B9D77-6161-498B-9706-2F21306CE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2BE1-A295-4B37-8F51-FBC88BCF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393E-4E12-4555-AC65-455B899B8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537B-CA2C-4503-9CFB-5627EE7A8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CEA14-7280-492F-9724-5C8A3358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49B54-73D8-456C-9F76-448EF487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77739-EC66-4AA4-A9ED-51D59FA6E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0A848-D870-48AF-812E-2B71C6AEF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9CCD-C00C-4FED-B076-8B4DE5A7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8859-4759-4F41-8230-9327EC565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FD94-F1CE-415B-A467-22FBD9FA7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4E342-68F5-4416-A551-FC0168D2E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14F2AE-3B1C-40D3-9A6B-F3648BED6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E6BDC-B885-4299-9245-BB19B1934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1E380-43C7-4E37-BE72-81903D32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FD677-4F9D-4356-A5CF-F1C92AA8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1A72D-D0CF-42D5-9524-3892576B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9F82E-B557-4FA2-81FB-18C00432E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AD4113-D97D-4906-99F3-26AF4F560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201ED-9EE5-4E06-B06B-525A613C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C43E6-052D-4009-85E5-7431B237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2A226-0559-4E70-9FD9-0C69985AD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1F63B-EC17-4964-8322-774F2F03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7FE76-F02C-4F18-A396-29EC00A57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F1D1D6-74CF-4C65-9FF0-8BF83DD79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687387-59F3-4DC5-B7E5-1153C1B9D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BC8A3E-122A-4576-87B8-F43889C7B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BA7DC-3AB1-48A8-ACB6-B2FF2AA8C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AB8D51-87AC-4A67-A90D-9D809917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3D72C-209E-4F7D-AC0D-0880ED578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99C91C-BE48-4047-8180-E69EE289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17FD8-F2AF-45CB-8A3E-59762A4FB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DDED98-E189-46F6-9804-C65A835F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9FA2B-E749-47B1-898D-BFAA2CC40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54F79-156B-4783-9160-2C7821415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95EF4-3DDB-417B-9492-59231516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1A694-5A52-42F6-B1AE-29B7A72A9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3FB4-F688-4EA1-BAF1-EFF2DC2A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C5AA98-B87F-4099-B19E-49A1AE31A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380DC-45DD-40FE-8009-D74760FA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2CEC5-6F95-4B33-843F-0B5724342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EE9421-8A3E-4F6E-BC7A-ECC93F8C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1030A-D339-47B0-9A4A-14D48BB0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BB9D7-7DCC-4447-B383-EB83714C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1174AD-F7DE-4860-8EE9-A3CA1D453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947ED-1F73-422E-B796-720C2A99A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5177E2-D8A1-48C5-BC93-B3E7CE4C4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3BE9B-A858-46B2-B07F-8A76EAA1F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4535F-7EC1-4F06-BA87-FA3D39903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B02BF-F036-4378-A695-50853ABA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16233-C6D1-4B08-818D-48F3EBFD2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374A0-2B81-4E1D-BE22-89E4F47D5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FD2C7-CEE8-4FCE-8E55-2E29938B5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0E0FD2-77F0-46C4-8652-407118DD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20B0A-8155-47C0-9750-D43303779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597C6B-7B5F-4A06-A921-97A29AAB8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2D4AA-6FA3-4151-8A98-DFF350D31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52E4-84A0-4FFC-BCCF-DB722945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E46F3A-5767-488D-9C19-4FFAB6E70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163BB-0534-4794-A65A-934BEC302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B1F50-C042-4BCD-A929-89C9815F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0130D9-F38D-4193-90D5-8DD7E12D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AF15CF-71AA-469C-BA9A-D117288BD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1B9C30-F9E4-4457-A2C0-DF12509CF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1BA388-C833-4BDC-A240-FA0956B89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A3E00-DCDE-4133-A14E-128849FC1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04A73F-3C0F-43CF-AD9F-ECAE8568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2C072-091B-44CD-8A64-4CBBE7D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7E588A-8926-46CA-B6E0-8F0A4BA3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209A6-E0DA-4707-8C62-59A2C1DCB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F49C1-DB09-4889-8F14-37150E7E8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83C608-5225-4BBE-8153-268A9BA3A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C00BB-6EA8-48A4-AE4E-99698E91A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27CB95-9351-49A4-8AD5-7EF2666C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F8CA5F-63CC-46F2-8597-B98A4D04C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115D-DFB3-4EDD-A635-3A248C1848D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77AC-80B8-4642-9B20-20FE460D80B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F210F-E435-4911-B52E-6B5D7D655E89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3D490-40D1-43ED-A208-2C08B007B04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178-D23D-49B4-9263-A375EB5BE7C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8D04E-FD7B-4C98-9F61-AB01E2E5CA80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ABE6-CDF7-4354-ABE0-B6C6233A46E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29D2-0697-41B6-843E-B3988AAF34A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BF36D-3905-4CEA-9F35-01338D8C91A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4D6C-705B-4625-AB88-EF3FB670C594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998F0-EEAD-4291-86E9-F599E7B108C1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324000" y="2565360"/>
            <a:ext cx="8351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are God’s plans for the world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’s our place in God’s plans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Discovering Your Place in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God’s Pla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Matthew 5:1-2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108000" y="2421000"/>
            <a:ext cx="8712000" cy="516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Being salt and light in the 21st century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Developing the character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owing the compassion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Sharing the message of Jesu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buClr>
                <a:srgbClr val="ffff99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1:12Z</dcterms:modified>
  <cp:revision>10</cp:revision>
  <dc:subject/>
  <dc:title>PowerPoint Presentation</dc:title>
</cp:coreProperties>
</file>