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FBE7BE-B7DC-4AAA-A9DF-C37F5511F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BD13EC-FDC9-4D6B-911B-0D57A3C4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956FD-47A6-4D22-8C7E-CDE82AEB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5CC7B-19A5-4A6E-94A0-EFD545D3E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CA58F7-F3C8-4F96-B746-465F9C94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BF8D3E-49FD-46A6-BD9E-035E93EC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C9A384-9427-44C2-8B21-E0F4495B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65F1AA-06B9-43A1-AC5C-37DF367D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16A53D-1EB5-4A44-9322-194940C22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50FF9-C3AB-4705-ADE6-4E2CA31D7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F140F4-DD9B-490D-8CA5-64BC6239E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B420B-16A9-495F-B4D6-BC6C65B5D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89EE5-2349-40A5-83AF-9B9470475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7004A8-A8AA-4E3A-898C-A0F64AA8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50936E-2388-440A-BD93-17A19C38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8800B0-5792-4AE5-8BD4-DF86C4A0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C7174C-1709-4952-BD55-BEC23534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C76A4-B2CB-4F72-AB67-80516B07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ED5DA-A4AD-4F17-90B6-604666AE0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B6B74E-D3FA-4E2E-A19A-67B29DCB1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5373E1-A3D9-4123-833C-4A058ABB9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43F4E4-F3E8-429B-AE96-77D22F01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83056-4467-4929-BA58-9426257CC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A646D9-3C14-47C3-952D-097BB641E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F3F096-D27F-4D82-ACA6-66AC2702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5F9F2-572B-4DF4-BE0A-D4F84EAC1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471DFB-BCC1-41BA-9B1C-52B3417C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F5DFD6-AA4C-4C7E-8725-9DDD32E2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853A9-23DE-4F38-8B76-43F3F739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84896B-0BE3-4C5D-AE3E-ABD979C30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0CA5-9219-4D71-BD4B-BB68846CE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95410-066C-4F00-A164-844CE830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F1CE1F-9718-41EE-896B-F9D238CE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5EB92A-9378-487D-B8A1-530C3F9C7E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6D8884-39E8-43C3-98B0-298226C8B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E8257-393D-419C-9122-14CE16D91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829080-FBA2-4B09-A17B-E24D13AA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D5DEE0-45AF-47CF-ACD1-06B16CCFF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D4D322-6EB6-4FED-B13A-CBC9B702C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20726C-D164-4132-984D-65B2D344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CFF3C-D22A-4143-9B60-381DFD470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CE38-C0BA-4BE5-94E1-83A8131B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0607B1-C56B-4958-B2EE-C6730136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B4985E-C86F-49DD-BD3D-4B7CC14BB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881724-D0D2-49B4-87BC-9B9F8F70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B8DA0-F52E-4942-B631-80A37F8A8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36B4D9-1E0A-4C8E-A4E3-42ACF3222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6CDB-1F83-411E-99E5-35114F07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FD0-A8F2-4203-A08D-4045C0B8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2BDA-588D-4705-A240-B3C04939C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14E5-4938-4DB0-8C6C-ED467E52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058FC-1F4C-450A-BC92-D363916C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9EF9-05F1-47F1-8589-1604AE325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885D-80FE-4EBA-9CFE-0D6406D6D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9F46-9D65-47CF-84AF-CA6E3400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337E-34E7-4029-A420-151EA1325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96E8-67F5-4ABA-81BF-B609BA685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F3E05-2572-448F-9B10-0D34C60A7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915B5-6B02-4EB3-B7DD-BFF9EB3B5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223C3-3E75-48CB-8FCB-E777B4D4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753F4-E665-46F8-8AEE-75893D2D9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756D4-79DB-43D7-B27F-398711C3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6BB12-01B5-4213-B678-99917655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6E3E-1235-44AC-A004-5D621D87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28FC-A8B5-4C59-969F-62E2ADFC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CC03F-2FE2-499B-AF62-F266D90C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E01B-8476-460D-B3D6-CCF7E17C6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665E-A0A7-486F-BB97-D15B2D332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A7CE2-6A87-4879-A2CE-6E4E8C687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ADA5D-BC48-4B15-84DB-E00D053F9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FD4E5-21BC-4C56-BD8C-F34F3D52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DDD9CE-D1B8-4B6B-8B96-59E4F378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752E7-6A9F-482F-AFA3-15960F8E0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0EE18-BBEF-4E3F-8F77-27BBF6B0C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C5100-733F-4B1B-977B-32DA7F3E7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1C1093-E1E7-4EC9-9849-E7DC4A3A1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8DDCF-4C90-4A83-9FEB-01B87A04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0B8ED0-2EF7-46A0-BC3F-9A22CDDA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4ABC7-BE7B-4EAC-AF34-176A3810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4AF78-A2B8-47C4-8D67-B5544D926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90832-E12C-4F72-ACA4-6C58571E7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33DA9C-0EBF-4D14-84CD-C5652CF15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87EE6-8DFE-431D-B619-6032CA5C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01682-C015-4C67-AC62-7EBD38E6C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9E6DF8-0BB5-4E46-AF89-DDC01B54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F8344-ABB6-4E94-AA82-D807BACED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9B0993-18A6-490F-8475-46CE02DAE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6367E5-7E07-478F-A43A-748564D3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DE47F-8047-4738-BBC3-78FCBFA4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612DC-6626-4246-9931-56D772181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9FF5D3-9CE3-4662-9F3B-D4149BED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D61490-C046-437F-BD5D-4E8A889C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47B71D-ADB0-476D-A83C-5BC18446D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1A1AC-F9F7-4536-BA92-0B287791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1DF0AB-E37E-4B04-9386-02280E167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740D6-F3D3-4012-A627-8D184DF95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A73DEB-8A08-4387-A3E8-624A91E47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D0842E-E70C-4260-80C9-715D506C6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35FDD0-052D-4654-AC93-FD815E09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EA9723-9283-4ECD-B4CB-8C7F4955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106B74-6316-4997-BE36-DAA60EC5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29D27-C237-4B02-831F-699AC6E9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7E9E9-BFFC-4EFE-87FB-0A3C1F58F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33877A-C1B5-4D3F-8CAE-41178BBC0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B27A2-29F2-425B-8905-B4AF38D38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38C0C-91BF-41DA-A073-403A144E7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294B94-6D65-40B5-921B-C84C46D0B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0F93F-29FE-4390-8BCD-D14AD03DF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8E288-C0A9-4674-B65D-6EDD6D83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5A648D-96EE-4AA9-802F-0996D6A7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48E55-3284-4453-A5E4-F2482667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68C12-57AC-4D59-B3B9-A44818F00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6DB8F3-1ECB-4395-B0B8-FED719DE3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85CA3F-AFE0-4D51-9058-33EE1C81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540D82-78F6-4A40-BC7A-C667FEF5B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076A5-6AB9-4B20-94C5-354B2A720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9E72E2-3044-4200-B184-9CFB5E679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5C326-D0C2-43F4-ADF3-B8397D025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6522E3-FD05-4B60-B637-B35DA203B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51375E-7254-4E76-85E2-7E441B8E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454B9B-57D6-4909-8F3B-97810188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1CD335-46C6-463C-98C7-1983E05D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D3607-87F0-4783-BA41-D69E2EC0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CE30ED-D5EF-4A43-AAFE-ADA3236D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993B6-A4CC-4BF2-9120-FB7C963B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69010-6D8E-4B42-9223-17176F501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D5110-A91D-40AB-B1B7-A6C482B8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F80FB2-F31A-457F-9FE4-6F5799711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A4B41A-08C1-4698-996C-22A8E6A57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ED40F2-17CD-412A-BCCB-0C9CF6116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10238-8578-4FFB-9623-B6ED2E29D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9CD9A2-1B1C-4808-BDCE-745FE801F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7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9D676-FE31-4CA8-BA00-200B32D9F7E6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2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4093-0BF4-4515-96B4-81FCEDA1EB72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6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478FC-6BC1-4CFE-8428-5409CE4CC6C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4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B1F2-FF3B-4958-9C3E-7C07091EF40F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8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8CA98-FA36-43B6-9A8F-FC710A4A1DAC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2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6D0E-8852-4BFE-960A-9668EB893A48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169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815E-4707-4195-88D2-D3D1E8A63E1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11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460D-B3DB-422F-B622-8BFE8215CFF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53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C72D-6743-4F73-84DD-E9930791AFC7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295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B101D-007B-4489-9E14-B67FAC489883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13" descr="RefocusNoStrapline.jpg"/>
          <p:cNvPicPr/>
          <p:nvPr/>
        </p:nvPicPr>
        <p:blipFill>
          <a:blip r:embed="rId2"/>
          <a:srcRect l="6276" t="0" r="0" b="25158"/>
          <a:stretch/>
        </p:blipFill>
        <p:spPr>
          <a:xfrm>
            <a:off x="-108000" y="-27000"/>
            <a:ext cx="1619280" cy="8636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1" descr="CP_logo_8.jpg"/>
          <p:cNvPicPr/>
          <p:nvPr/>
        </p:nvPicPr>
        <p:blipFill>
          <a:blip r:embed="rId3"/>
          <a:stretch/>
        </p:blipFill>
        <p:spPr>
          <a:xfrm>
            <a:off x="0" y="6600960"/>
            <a:ext cx="1619280" cy="257040"/>
          </a:xfrm>
          <a:prstGeom prst="rect">
            <a:avLst/>
          </a:prstGeom>
          <a:ln w="0">
            <a:noFill/>
          </a:ln>
        </p:spPr>
      </p:pic>
      <p:sp>
        <p:nvSpPr>
          <p:cNvPr id="337" name="Rounded Rectangle 8"/>
          <p:cNvSpPr/>
          <p:nvPr/>
        </p:nvSpPr>
        <p:spPr>
          <a:xfrm>
            <a:off x="324000" y="476280"/>
            <a:ext cx="8496000" cy="6048360"/>
          </a:xfrm>
          <a:prstGeom prst="roundRect">
            <a:avLst>
              <a:gd name="adj" fmla="val 16667"/>
            </a:avLst>
          </a:prstGeom>
          <a:solidFill>
            <a:srgbClr val="17375e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3988-0FFD-4A5D-BC35-A9436AE7A1EA}" type="slidenum"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TextBox 5"/>
          <p:cNvSpPr/>
          <p:nvPr/>
        </p:nvSpPr>
        <p:spPr>
          <a:xfrm>
            <a:off x="539640" y="2205000"/>
            <a:ext cx="7712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what matters most in life…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the point of your life is to love God and to love oth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5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5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0" y="54936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  <a:ea typeface="Tahoma"/>
              </a:rPr>
              <a:t>Recovering Your Focu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ahoma"/>
              </a:rPr>
              <a:t>(Acts 17:16-34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Box 5"/>
          <p:cNvSpPr/>
          <p:nvPr/>
        </p:nvSpPr>
        <p:spPr>
          <a:xfrm>
            <a:off x="250920" y="2052720"/>
            <a:ext cx="8353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1  The point of your life is to love God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…</a:t>
            </a: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put God at the cent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Tahoma"/>
                <a:ea typeface="Tahoma"/>
              </a:rPr>
              <a:t>2  The point of your life is to love others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7:25:14Z</dcterms:created>
  <dc:creator>CHRIS BROCKWAY</dc:creator>
  <dc:description/>
  <dc:language>en-US</dc:language>
  <cp:lastModifiedBy>Mary Parker</cp:lastModifiedBy>
  <dcterms:modified xsi:type="dcterms:W3CDTF">2012-01-16T12:50:58Z</dcterms:modified>
  <cp:revision>6</cp:revision>
  <dc:subject/>
  <dc:title>PowerPoint Presentation</dc:title>
</cp:coreProperties>
</file>