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F93D7D-EE19-498F-822A-10686776B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7CEA9-5D2B-4A87-B5D8-90657F4B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AE81A-99DB-490F-AA1F-4EFB72E3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A2DA7-54F8-4DFF-B459-992FCD8D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B6FFB2-6390-458A-AF65-755B0B80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B8C4F-D903-4CD7-AAFD-6E5BF3F0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297562-AAC7-418E-80DF-D14D45DE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84C6B5-60C0-41DC-8557-213DBABF8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4313CD-19CA-4563-B844-30A6B4446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704815-FB4C-4C7D-A485-C8BB7B2D7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AFFF2F-B649-48D4-979B-D8B3F4886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07AA57-9E68-480A-8A14-9E843B6D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01AC90-0D20-4B22-8ED3-3533624A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B41BD-B0BE-4C99-92A6-BA8B1E3D0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736534-0019-4605-8074-A1C1DCF2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CC7863-2572-4CC3-9267-2CF1B9B5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63B947-C53A-4777-92C9-4CC6A7EFD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B01409-9014-462F-AEC3-F27F0A14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19940F-CCA0-4196-8106-73A98A254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D7A389-9730-42AE-8495-1D1081577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6AB49-C3A0-4D0F-9526-9D8A707F1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2D80A3-59B6-4C20-832E-2842914BF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848D9C-47A7-43BA-8689-77701729C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15243F-11D9-4529-BDB2-AAF2F6F58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74F108-6CFE-4F4C-B9CE-03D7257AF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50704C-3B92-433E-A225-197FC7915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AF8F65-8F2F-46F5-9391-A8AA8769E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274025-85EF-4E95-AC1B-36DBAF78E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B00B03-E868-451E-B6EA-48955BEB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5D5A45-89CE-40BA-A01C-14E156AD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7694-332A-47AB-8C50-2E267CB7F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8A8010-9FEC-4AD8-9171-39AF3A102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E707BE-DC94-46FD-990B-887854D00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0B40D5-386C-4F74-B80E-92F130866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8D01D1-6F61-4502-87DD-98FDA8871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0A28C9-8E4A-4335-9441-CFF79C60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C5C9DE-ED30-43B6-A8AC-5F74B459F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5590D-30B8-4DD2-9B58-A8D70B826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E7F93D-37D9-4904-8592-13A41B332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D5E57-DE7A-4212-AA0B-1E2496627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3A0CF7-867B-4E93-924A-AA4A26DC5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16FE-492D-4401-A3E3-72F9EAEC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677A9D-A286-48D1-8D96-B92D3CF0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8AD6AD-8D5B-454B-967D-EB6C3AD1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C2B59-D5BA-4E84-A67F-A2084384E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44BEA8-B50A-48F3-A727-CD3C6575E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9B9589-F8B1-44D4-BE53-437DEED97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A46E-0E9C-4C30-8D59-BB775AB48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98B61-31BC-4874-A57A-7F02D0E1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78DF-9C89-4463-B296-64A708DFC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BCEE-893F-46FA-952A-FA865A6ED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CC89-B70F-485E-83B3-5969DB95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EFBF-089A-4DC5-AD6A-07B2D0DE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9FBB-7EE4-4CBF-B3D9-4827292C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0548-ED80-445B-8406-F539FCFC0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7E25-6107-4A97-8017-B9ADA2FD9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F123-062A-4622-AD08-334BAAF73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5BC79-74C6-4515-9C55-B4E388D08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21E1-BA6F-4D02-8D3D-FE33B842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E78A-9D57-4922-B509-C478F49A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B6369-3C23-43BE-A0E8-033CD8268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4752-D32C-43C7-9023-1DC08C9D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27358-A57D-4832-B566-899E77AFB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BD2E-C312-4F39-A243-69C606085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BD2CB-D08C-4879-81D6-17578A9B4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E2C0F-2E3D-4D9C-A15C-886B6A37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F7B55-05F0-40D1-BD86-0ACD5CEA7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8ABCA-B4ED-4DAB-B0CC-66ED827A5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F31BE-8B89-4541-8C9D-60687C7D3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C9DF5-DD4F-44CB-89F6-A74A235C4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A11A9-1B87-4FDE-8082-5D6C2A9C0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F2567-8EFF-481A-AC05-5C1882E92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BB344-73E4-4420-B2A7-8B49E143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6A62D-5627-496A-8F12-857099783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1CAFD-E0EA-42B9-8338-7B71D33BA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97667-67E9-4001-B1E5-5C1256DB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AB55A-89E9-4136-BD6B-6E9214EA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77808-98B4-42CD-BD04-F5886A6DA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F8A5F-AD9C-4DCC-A497-C0AA35EC3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76DB83-AD0E-4509-8A57-1D5E2A276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F7BD9C-A4B9-4E09-863A-2FA7FFF74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D5441-6FCD-4DD2-9610-9A7323145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8AE707-1C01-4170-AC8F-7E1F61862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573D2-3100-43BA-837A-CDF0F7D5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04912-CED9-40C1-B05B-8A0AEF78B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1AC321-85E1-4BBB-964F-0A70E0B9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7744C-7E69-426F-B912-5EF189DB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D360C-D242-4E21-AD15-55B6AB8E3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96F01-F4C3-4332-8439-10B5C1E9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0E58AF-F949-44E4-986D-503956EF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319E1C-131C-4984-BB9A-664A35AFC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6AB76F-35EF-433E-9A8B-A2A0DC182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A73FA0-8D66-4406-B0AC-776E82258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17A0F-FBB6-4A7F-8F1B-2EF874BBD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896B80-98BB-4000-96DE-7724DBD0A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F5B13-4837-4D77-86CD-E289D9552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4284AF-6A8C-4EE1-B696-D44CD5484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0C5746-FE77-4ADD-A120-2EAF51211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0871DA-1824-4B92-8FF6-2773F08F8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9147F4-BBB9-4B59-8C48-32E68FFB0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407BB1-3F2C-4375-950F-35D49A560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5DAF9-3700-4CB7-8244-D509726C7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BBA277-2466-4C6C-A571-865DFBC7E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D17A39-0353-4232-A40B-E1A1F1FC8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ACCF9-75A9-40FC-B48C-1E1A8C76A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FF0376-EBDE-4B63-9851-C068DC384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1F814-D5AA-4A2C-AD1E-8E796BFF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F16C5-8A0F-43AC-BAD0-566EB31D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87510B-2A17-4151-9B26-8A60EC87B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F892F-AF48-4527-8B36-E95B31482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66AEA5-5092-43C6-A0FC-3272F193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4B929-FB3F-46C4-B1F4-E9E8573B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F7AD00-D00D-4DB4-ACCB-DF1A412A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93142F-7722-4355-9662-1E8DF6148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A77738-89C4-4CB8-BA69-59B354C9E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724EB-35E8-4DC4-B7A8-FD3AF3D2D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DA316E-59D2-4F66-9F1A-26AE2157F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45187-5798-4FD9-875D-CDE5E3A52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A79529-0A27-45CF-9744-CB5936575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71187-6129-40FA-B8CF-243A7F0A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1E00DA-6106-4DE4-9C3A-1DD76488C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642B3-4233-4063-B245-1BAB983C2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E99D6E-7A5A-499A-9896-825378A6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D09F56-4C52-4644-84F4-1859457E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0297F3-82C9-4306-AF7C-6E7217EF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D1F1B3-FE8C-4DA1-9BCE-920F5327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4D5771-472C-44A6-AB52-E0A3FD52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CB76A-F1EB-41C7-8E95-B2703A526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09F1A-7A8E-4841-84CD-066E06D50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EA7FFB-3F24-45C3-AC67-211F8FC80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716B85-C498-4F79-BD32-290C698DA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4991D-9076-415D-9034-305D24A48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FE6D4-8D1F-4FAB-AE74-17CA09851DCB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7730-9636-4BD6-A18C-1DA52367FBA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CD1E5-DC88-48E6-826A-3576F5E7E88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104D0-BA0B-4FED-BEC5-88B638D5AC7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C29E0-3667-40A9-968E-1FF1C457062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7F7DC-F863-44B0-B0DD-AE1CDFB0CCF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F7AF-1BCD-476A-8E14-0E4F9DABFF6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0A8BA-CA11-4075-9724-C3B36FF753A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C9A1E-1A58-479F-A328-1C06A88BCCA5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73955-3515-49D5-89B7-426C1AB21F8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97BE-5D8D-498D-91B9-4666A840BE5D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Getting A Grip On Reality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539640" y="1844640"/>
            <a:ext cx="7712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ithin the last 30 years the world has changed dramatic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change has consequ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‘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Insanity’: “Doing the same thing over and over again expecting different results”</a:t>
            </a:r>
            <a:r>
              <a:rPr b="1" i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(Albert Einstei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5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ahoma"/>
                <a:ea typeface="Tahoma"/>
              </a:rPr>
              <a:t>Getting A Grip On Reality                     </a:t>
            </a:r>
            <a:r>
              <a:rPr b="1" lang="en-GB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611280" y="1844640"/>
            <a:ext cx="7640640" cy="52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 observes the culture surrounding him (v 16, 2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aul preaches in a different way                           for a different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Our God is Lord of the ‘different’ contex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0:46Z</dcterms:modified>
  <cp:revision>8</cp:revision>
  <dc:subject/>
  <dc:title>PowerPoint Presentation</dc:title>
</cp:coreProperties>
</file>