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402B-DDBB-4FE9-A82C-E81C28352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C48-6368-482D-9548-023E81B0D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7C8A-C698-46AA-AF95-899486A8A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7A55-5675-4922-B5F3-43A77CCF5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4298-705D-4BCD-BAFD-F12A65B72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C7DB0-7082-4D23-B73A-2BA9AD85F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569D2-FB4B-424A-90CB-8555525AB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E363-27C6-46F0-BFAD-BC9C28D05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F949-A17E-4B92-ACFB-F1619ED3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6AC5-9B9D-4822-BF77-A27C03ED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0C03-242D-4468-9459-A02AB18D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3F5DA-1E20-433F-9BF2-A458D163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E9912-4540-44C0-A944-0BEE4997F8A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34E9-3DC4-4E41-A395-82008488B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:\Documents and Settings\mparker\Local Settings\Temporary Internet Files\Content.IE5\SF05V9Y1\MPj04221040000[1].jpg"/>
          <p:cNvPicPr/>
          <p:nvPr/>
        </p:nvPicPr>
        <p:blipFill>
          <a:blip r:embed="rId2"/>
          <a:srcRect l="50539" t="3333" r="19944" b="0"/>
          <a:stretch/>
        </p:blipFill>
        <p:spPr>
          <a:xfrm>
            <a:off x="0" y="533520"/>
            <a:ext cx="1619280" cy="60958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3" descr="RefocusNoStrapline.jpg"/>
          <p:cNvPicPr/>
          <p:nvPr/>
        </p:nvPicPr>
        <p:blipFill>
          <a:blip r:embed="rId4"/>
          <a:srcRect l="6276" t="0" r="0" b="25158"/>
          <a:stretch/>
        </p:blipFill>
        <p:spPr>
          <a:xfrm>
            <a:off x="0" y="-27000"/>
            <a:ext cx="1619280" cy="8636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4"/>
          <p:cNvSpPr/>
          <p:nvPr/>
        </p:nvSpPr>
        <p:spPr>
          <a:xfrm>
            <a:off x="3000240" y="1285920"/>
            <a:ext cx="59295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cd5b5"/>
                </a:solidFill>
                <a:latin typeface="Tahoma"/>
                <a:ea typeface="Tahoma"/>
              </a:rPr>
              <a:t>SOWING,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ac090"/>
                </a:solidFill>
                <a:latin typeface="Tahoma"/>
                <a:ea typeface="Tahoma"/>
              </a:rPr>
              <a:t>REAPING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e46c0a"/>
                </a:solidFill>
                <a:latin typeface="Tahoma"/>
                <a:ea typeface="Tahoma"/>
              </a:rPr>
              <a:t>KEEP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SportsCar.jpg"/>
          <p:cNvPicPr/>
          <p:nvPr/>
        </p:nvPicPr>
        <p:blipFill>
          <a:blip r:embed="rId1"/>
          <a:stretch/>
        </p:blipFill>
        <p:spPr>
          <a:xfrm>
            <a:off x="2484360" y="836640"/>
            <a:ext cx="5904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752472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Calibri"/>
              </a:rPr>
              <a:t>    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The Engel Scale: Sowing and Reap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1763640" y="1676520"/>
          <a:ext cx="7056360" cy="4479840"/>
        </p:xfrm>
        <a:graphic>
          <a:graphicData uri="http://schemas.openxmlformats.org/drawingml/2006/table">
            <a:tbl>
              <a:tblPr/>
              <a:tblGrid>
                <a:gridCol w="2664000"/>
                <a:gridCol w="4392360"/>
              </a:tblGrid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1 -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God is good and Christians are OK.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4 - 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Basics of the gospel messag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92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 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Steps 7 - 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99"/>
                          </a:solidFill>
                          <a:latin typeface="Tahoma"/>
                          <a:ea typeface="Tahoma"/>
                        </a:rPr>
                        <a:t>Counting the cost and making a respon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n evangelistic strategy </a:t>
            </a:r>
            <a:br>
              <a:rPr sz="3500"/>
            </a:b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needs to include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692000" y="1905120"/>
            <a:ext cx="7451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 2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Rea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Keeping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619280" y="0"/>
            <a:ext cx="752472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99"/>
                </a:solidFill>
                <a:latin typeface="Tahoma"/>
                <a:ea typeface="Tahoma"/>
              </a:rPr>
              <a:t>Having a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"/>
          <p:cNvSpPr/>
          <p:nvPr/>
        </p:nvSpPr>
        <p:spPr>
          <a:xfrm>
            <a:off x="1835280" y="1371600"/>
            <a:ext cx="6927840" cy="558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’s basic strategy is clear in A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Go first to the Jews or God-fear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n evangelistic church pl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Having an evangelism strategy is </a:t>
            </a:r>
            <a:r>
              <a:rPr b="0" i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not </a:t>
            </a:r>
            <a:r>
              <a:rPr b="0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unspiri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1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66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 a secret pas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Offer practical hel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Hold a party for your neighbours (The Big Lunc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Fun Da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Become a school govern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-50472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lay sport for a local te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17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Sowing 2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618920" y="162864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mily ‘café style’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 / Journeys /Wellspr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air Trade / Christian Aid concer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rayer Spaces in schoo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Songs of Pra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‘</a:t>
            </a: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Fresh Expressions’ eg Messy Churc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741600" indent="-47880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Make the most of Christmas, Easter et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xamples: Reaping activit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62864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Retreat (Quiet Day, large Christian even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Pointing people in the right direc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6400" indent="-520560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Font typeface="Wingdings" charset="2"/>
              <a:buChar char=""/>
              <a:tabLst>
                <a:tab algn="l" pos="2151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ALF Clu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Keeping strategie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112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	</a:t>
            </a: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What helps people sta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sense of belonging, small groups KEY!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a place to serve and grow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healthy, open and trusting relationship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1200" indent="-325800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99"/>
                </a:solidFill>
                <a:latin typeface="Tahoma"/>
                <a:ea typeface="Tahoma"/>
              </a:rPr>
              <a:t>leaders able to lead, motivate and equi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19280" y="304560"/>
            <a:ext cx="7524720" cy="157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3"/>
          <p:cNvSpPr/>
          <p:nvPr/>
        </p:nvSpPr>
        <p:spPr>
          <a:xfrm>
            <a:off x="2286000" y="1981080"/>
            <a:ext cx="60721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ncourage leaders to read </a:t>
            </a:r>
            <a:r>
              <a:rPr b="0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owing, Reaping,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e with the church me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Use the training materials to involve the whole chur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619280" y="45684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A paradigm shift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619280" y="1989000"/>
            <a:ext cx="752472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Four changes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to shape a strategy for evangelis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1763640" y="476280"/>
          <a:ext cx="7056360" cy="5989680"/>
        </p:xfrm>
        <a:graphic>
          <a:graphicData uri="http://schemas.openxmlformats.org/drawingml/2006/table">
            <a:tbl>
              <a:tblPr/>
              <a:tblGrid>
                <a:gridCol w="1028880"/>
                <a:gridCol w="1323720"/>
                <a:gridCol w="1176480"/>
                <a:gridCol w="1174680"/>
                <a:gridCol w="1176480"/>
                <a:gridCol w="1176120"/>
              </a:tblGrid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Network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One (Pionee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Sowing Tw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Rea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Tahoma"/>
                        </a:rPr>
                        <a:t>Kee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Childr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Tee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Adul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Baby Boom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Senio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Fami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Oth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1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‘telling the truth’ as the      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         ‘outworking of love’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2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requiring people to ‘make a decision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being part of a process and what the Holy Spirit is doing in a person’s life over time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4400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3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making convert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s about making disciples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99"/>
                </a:solidFill>
                <a:latin typeface="Tahoma"/>
                <a:ea typeface="Tahoma"/>
              </a:rPr>
              <a:t>Change 4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not so much about a few gifted evangelists proclaiming ‘the truth’ as </a:t>
            </a:r>
            <a:r>
              <a:rPr b="1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about every Christian being good news in their neighbourhood</a:t>
            </a:r>
            <a:r>
              <a:rPr b="0" lang="en-US" sz="3500" spc="-1" strike="noStrike">
                <a:solidFill>
                  <a:srgbClr val="ffff99"/>
                </a:solidFill>
                <a:latin typeface="Tahoma"/>
                <a:ea typeface="Tahoma"/>
              </a:rPr>
              <a:t>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3" marL="1330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Evangelism is about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619280" y="1600200"/>
            <a:ext cx="75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99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the outworking of lo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involved in what the Holy Spirit is doing over time (proce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making discip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799"/>
              </a:spcBef>
              <a:buClr>
                <a:srgbClr val="ffff99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ahoma"/>
                <a:ea typeface="Tahoma"/>
              </a:rPr>
              <a:t>everyone being invol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LifetMan.jpg"/>
          <p:cNvPicPr/>
          <p:nvPr/>
        </p:nvPicPr>
        <p:blipFill>
          <a:blip r:embed="rId1"/>
          <a:stretch/>
        </p:blipFill>
        <p:spPr>
          <a:xfrm>
            <a:off x="2771640" y="907920"/>
            <a:ext cx="5423040" cy="49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5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  <a:ea typeface="Tahoma"/>
              </a:rPr>
              <a:t>Two important ques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67616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1:  Where on the scale are most people in Englan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low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ahoma"/>
                <a:ea typeface="Tahoma"/>
              </a:rPr>
              <a:t>Question 2: Where on the scale has our evangelism been direct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At the higher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4T16:37:42Z</dcterms:created>
  <dc:creator>Mary Parker</dc:creator>
  <dc:description/>
  <cp:keywords/>
  <dc:language>en-US</dc:language>
  <cp:lastModifiedBy>Mary Parker</cp:lastModifiedBy>
  <dcterms:modified xsi:type="dcterms:W3CDTF">2012-01-13T12:40:28Z</dcterms:modified>
  <cp:revision>16</cp:revision>
  <dc:subject/>
  <dc:title>PowerPoint Presentation</dc:title>
</cp:coreProperties>
</file>