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DAB64-8335-464D-A5ED-591329B4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DCDAA-6F2F-4528-B433-3D9872A8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691E7-D5E6-43EC-AF2B-92D613CD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4793F-0E09-4486-A9E7-9A8F4925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41D4E-82B0-43F7-8F56-0A7574CB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9569B-1582-41D0-ACF4-39EBE435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F11AB-7A84-4DF0-856E-2D7D25A9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60250-7AF8-4D15-AA01-D800979DB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96392-C54A-4C88-B052-3700E199A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748B4-D643-4014-9ACF-246629205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64CC5-8C1A-4ECD-910B-230BDC07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8E940-87F6-4DA4-BBC0-EC938E57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BDF61-722E-4F30-A734-F87E5B52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2C65B-F635-42CF-8282-97C099EA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29271-8877-4435-8F99-7505F093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211BF-C2EC-49DB-A5D0-08AACB66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2CE25-BDC8-48EC-873E-24CBB0C3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1BCA4-DC30-4E2A-B4D6-F40598A0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309DD-1E98-4821-9F88-06F35178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7F9EA3-B2EE-4FEB-B62F-CC8EC9B03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FCF01-6011-4BD6-A249-42641A8E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89AA36-CE60-4C55-9AEA-BE89A9E43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F1974-740B-4CAA-AFBE-8F1DA377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F2C1A7-287D-4DB8-BA91-A368F83E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ADF233-E74D-4A07-8B9E-823176E3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D8E6C0-B6FA-4281-85E1-410B63D7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FEF993-6141-4252-84B0-9EB7D78C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22AA6-EC5F-4D1D-9FE5-DDC9E46C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8CA5B-B894-417B-A4AD-82804730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35D628-E4B9-4A40-A882-114127C6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1CA7-6F8A-4FCE-8847-A7797DE38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25DA5-73B1-47A2-BCE7-F04F924F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5F4B0A-AF11-4BB6-B5B1-E72864B23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470E3-AEFB-41DD-9E37-3AD1CE681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BE4E1-7589-4949-9498-15E99AAD6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033B8-89C3-4B36-BF48-8AC13688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DA674-4C3F-4974-B6FE-24D72BC4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81B12-1B61-4642-A41D-4329EBEA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B9A93-438A-4128-9024-1E6E713B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3D295-AB2C-49F5-8BA2-8755E8BA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9FFD2-A81A-42AB-BFE9-E0B1BC27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F9C2-3CCB-4190-ABA5-A4CD7556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2D2D0-9D43-4F14-90E7-D6BD02F6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66C6A-C364-476D-93BE-98D4E991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820DF-7F73-46DA-BF12-8A82BC32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D6490-1C28-42EA-A6F5-8FD89BC99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8DBEF-C139-4E74-BE72-6D2441AD2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4822-30B9-4237-924F-91C6EA4E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462F-ACED-4B4E-9913-7878ECA4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8F8D-854A-4C20-94C5-7D7015D1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A756-D130-4CF6-82D4-5517A8E9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7E20-1535-43B4-B9DF-D1F6826D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0E3C-B38E-43DC-9E2A-A7E01C3E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8554-6035-493C-83B9-EB713C67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80F2-572B-4A36-9625-695E63D0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7D21-28AA-4D56-80F3-4B320A067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A8C0-AD56-477D-886B-E13907E06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3F81-03CB-484B-9FF5-03C4AF38A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8564-5CAC-4CC9-9D9F-61311B6C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7C56-8C37-40D9-88D5-264BC192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1EB8-A4E7-4D06-B4B0-E6597118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0212-4A83-43A7-B000-D98F8EE5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04C0-DA15-4F24-82BB-44983C87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C09E-386F-4E87-9D6E-C3760613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025E-F97A-479F-B0E0-060EB843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6D3D-FB18-4647-8E29-85284C84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7178-584D-4836-9DB7-53393216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A1D2-BD50-4D0F-895E-276D12A31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40B6-D7C1-4D69-A11A-D5AF4DE9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79CE3-1BBE-4AD4-8346-1C491A3D4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67762-6235-4F9E-A957-BFFB47C6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F90EF-156C-4ED6-BBA6-F39B1DC0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12BD1-0CEF-4CAB-956F-4DA0ACF4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AE8BC-3970-4F07-8EEB-3B1D1F00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4EBA8-8E09-472F-BD9A-42C18D01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B94B1-E40E-4206-BD16-C725E2AB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E974A-DC6D-45FB-8350-8F741D9D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C0F79-8E21-4D1D-949F-F1A5BDEE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B514E-6AAB-4626-AFE5-4E942392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F4437-FF8A-4EB4-9EA3-9D8DE1AFE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C9074-4664-4A75-811F-5E1057913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AFF80-EFF6-45EA-B85B-3E3A74F9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F7C69-897E-44E7-B629-F274EDE9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0036A-C9FA-4945-AEE7-E959E441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EE70A-5583-4B73-BFB1-BAC16E2B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73216-C3F5-472F-BCB4-2AE071E2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C8084-4D06-4E3F-ACBB-28E63CA3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E3DDC-07FE-4D0B-A502-286006A8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21B74-E697-4888-9861-5490E2A7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5CD7C-BFFE-4D4F-A128-CA8973C6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7062A-A024-4A29-BB80-E0FF337B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9BE39-24A8-4645-9446-A9E232DF4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510EE-5A77-425B-B50C-043863665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3C06B-6633-4D92-A683-97487599A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AD6C1-2B1D-4E7C-B709-81D2871D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289CC-4266-40F1-8A83-0628C654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6CD4B-2CE3-4B5B-A668-D9A0A23D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35753-A5B7-4599-A526-3F6713AA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DEFE5-DA1D-4E01-9AD7-6A2ADA38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7F1E3-4E39-4522-BA15-B45613DC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04DCB-8E6E-4AF4-B7D6-4CC71B2F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404AF-8C7B-409F-A689-3A6AC82D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3A0D5-50F7-478B-9767-ADBA6540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24FF7-32C1-43AB-B772-62685A068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D6F7C-6329-4646-91E9-CE94705D9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C6844-D464-45C5-8C0E-EAC8D67D8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9EB79-AEEF-468D-94C8-D9038450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AE127-D860-4E26-82B8-BEFCB448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AAC7D-D93F-49BB-940D-D60ED564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8AD55-5CDD-4A8D-B213-C381E6F1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4B7EC-92B2-4B5A-9B93-967CF900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987B4-498D-4E8D-8309-D37404DB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EF9A2-5BEB-46F1-B6B8-FAFA3DA9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19960-EA8B-41F0-B004-360DA38E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5F7B6-A257-496E-AC41-32E517EF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A96C5-FC81-45C4-BE86-0E24214D5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89156-0C1A-45BD-9BD5-0EFDFC66D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25FAE-380A-4D07-9AAD-5C379ADBE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BF878-6632-4F7A-AD03-30057316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F8FF2-D376-4A08-B1AD-CBBAF38E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7E898-FEF8-4CB4-BDEB-D87694E3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81630-1A6A-470C-A673-69AFFBAC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97E4C-B919-4255-B007-E1B0C260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6D28A-20CF-4AB3-9271-EEBD22DF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44CF7-4A89-4DC4-ACE7-54535E5C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341FD-0520-4612-8874-418C7CDF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87BBD-D84B-46B1-93C4-B3272572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64A35-C72B-4501-A931-CCC00C297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2C615-9681-49AA-9BC5-2A4B3D398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28850-63F7-44D6-8D86-B8FD687B1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8B944-3CD8-467F-9901-4B920BD1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E6A8E-B9A5-4CBC-A25D-C2402CD3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AC49-0A6E-45DD-BD88-9A3F2E32378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6CBA-FB2A-4066-8B73-24404D1C341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016E-7748-40BD-B79B-DAF98D59CC7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7E59-74BF-442A-889A-F60CE6DC3C6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4CDF-E401-48B3-BFBC-F5897CEA620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2D83-143C-40A1-AEF5-5D2D9A5F8AC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5597-0981-40ED-8512-B3D3C70E777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AD71-124D-4732-AF5B-070A9C52F5B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9210-11DC-4998-8A31-8A7E38A6C13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7F7E-0A2C-44B7-895A-0FCCFD14AC0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2D9C-DEF4-425C-8243-D5C2D84CDE5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1" descr="TCWS1.jpg"/>
          <p:cNvPicPr/>
          <p:nvPr/>
        </p:nvPicPr>
        <p:blipFill>
          <a:blip r:embed="rId1"/>
          <a:stretch/>
        </p:blipFill>
        <p:spPr>
          <a:xfrm>
            <a:off x="1471680" y="536400"/>
            <a:ext cx="62388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TCWS2.jpg"/>
          <p:cNvPicPr/>
          <p:nvPr/>
        </p:nvPicPr>
        <p:blipFill>
          <a:blip r:embed="rId1"/>
          <a:stretch/>
        </p:blipFill>
        <p:spPr>
          <a:xfrm>
            <a:off x="1428840" y="536400"/>
            <a:ext cx="630540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1" descr=""/>
          <p:cNvPicPr/>
          <p:nvPr/>
        </p:nvPicPr>
        <p:blipFill>
          <a:blip r:embed="rId1"/>
          <a:stretch/>
        </p:blipFill>
        <p:spPr>
          <a:xfrm>
            <a:off x="1536840" y="536400"/>
            <a:ext cx="610704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" descr=""/>
          <p:cNvPicPr/>
          <p:nvPr/>
        </p:nvPicPr>
        <p:blipFill>
          <a:blip r:embed="rId1"/>
          <a:stretch/>
        </p:blipFill>
        <p:spPr>
          <a:xfrm>
            <a:off x="1577880" y="536400"/>
            <a:ext cx="60264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0:25:34Z</dcterms:created>
  <dc:creator>Mary Parker</dc:creator>
  <dc:description/>
  <dc:language>en-US</dc:language>
  <cp:lastModifiedBy>Mary Parker</cp:lastModifiedBy>
  <dcterms:modified xsi:type="dcterms:W3CDTF">2012-01-16T10:41:24Z</dcterms:modified>
  <cp:revision>3</cp:revision>
  <dc:subject/>
  <dc:title>PowerPoint Presentation</dc:title>
</cp:coreProperties>
</file>