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477733-B322-450E-A125-B28D7F294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AE6A1F-175A-4B5E-856F-EE558388B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B264D2-AED5-4994-A377-9F390D665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61556E-0106-4433-89F2-A18BD57A3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371439-F004-4CEB-88B6-C671AD126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B5805F-A330-41F7-849A-CAAA8ED1D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B1BE18-1A15-42BC-BD10-13E6D2E04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5DC49F-EC90-4281-BC1F-21E2C195E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91CB42-D8EC-4D48-909E-A0654F02B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C9462E-AECE-47D9-A6A5-694C7852D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B3D2B7-3BAB-4649-B4F5-51B5A29BE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70079E-2231-4311-A1F0-518D1BF6A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BEE42A-06CB-42D1-8F69-F452AA401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62D482-8B38-477C-8FF7-1E6C5F171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C4C973-AEA1-44E1-8E78-02D55FEC7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8068AF-9542-4428-AD14-18F5A5DCF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0C567D-64B4-4C91-B60D-8FD043566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93D831-5828-405B-B09E-073E8BBF8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CA6CE2-4EA7-4676-B2D5-3DA1112F0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4AE997-E162-44F1-B659-8E120C70E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4F5540-4988-4C6C-8031-D400BFA8A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389EE0-8B73-4E06-B6E3-7B2190A09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55DA0D-5B7F-4F44-901F-60C1AF8C3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4988AB-B76F-4570-A2A7-E996FFDEC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935B9D-5F32-4DDD-8157-2FEF8C1F9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83C91D-B7CB-4248-B6B6-3ECF4D910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79A5C7-22CD-4EC8-8364-052D139D1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D49AAE-90A3-49F1-86BE-94FAB6455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BF12C0-C859-47C0-B2F1-CB388ADAF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FFE2D7-8485-40AF-8B5A-F71CCF7FD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688D3-511B-43BC-97F0-C246F1CB1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0C9503-C19D-4831-A41F-396C628FC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0BBD2C-319B-4755-A715-0F162B18F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FA6B2A-425D-4746-A054-013234217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8465CE-53F0-43B1-8BDB-6F80D7F38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C412C3-1C71-4D8F-B829-C3508B6CC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EAAE7C-2D30-43F2-B8F9-F6A727ECE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D147FB-396C-4A27-B0BA-877A74810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8426D3-95CE-4CC4-BEED-9FDFED4BA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5C51C2-8FBC-42DC-96CD-CC9569DC2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40F4E7-D26C-4B4F-BDDC-0D79FA49A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A8AF5-664F-40B5-B533-80C91B7CC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543726-15C9-4294-937B-78AD602FF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E6524E-C232-461D-9A7B-39DDD59E4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8B6AD2-BC23-495A-AC1F-3ECB7D02C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2E5EF2-A4CB-4BA7-A203-2EA5F637B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73B179-EB78-4498-8289-130B4046C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DA01E-8308-49EB-A28B-CB585344C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BA51F-99B8-461C-B066-694EDFDE9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4DF3F-3E33-4528-AE92-B884FA733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08728-A3F2-4B33-9035-328C706DD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FBC7A-3E11-4F42-A2F9-F1AEF7418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A10E8-F21D-4195-9947-D72991E66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B2323-B01C-4E5B-BCA3-BB833FD2D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644BD-9BB9-44EB-B68C-688377345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FCF9C-8769-49F0-98B5-424A3ED23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3789D-9A99-4FEC-9E94-DC0A828B6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8B38E-D1BF-4756-993B-4E161EC96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EA456-88E1-4197-9584-F7D4BFBAD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69DB8-BC06-4036-A5B5-9B281E63C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14A00-646B-4992-9FED-5CFE54620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F164C-C258-4768-8B2F-C223205D9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642DB-90EE-45EC-9F49-47543CE25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B2694-E567-4116-B7C3-3A4BF2D79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D3E2D-EF79-46DF-8FBB-7859B5800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1EE9F-7626-4426-9837-83577F986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E7BFA-70A0-41EC-8CA0-2E3E5828B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FDC3E-BC67-4404-ACB9-A2EE51F99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74D26-569E-4D21-A55F-E7DBD86E0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ECE8AD-5493-4981-B4F3-F303151ED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1275DC-65BD-4E22-BCC2-4F614FD52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12D267-A587-4C28-8E7E-630ACED6C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A9DD7E-54C0-4F85-A6F1-E21F3E640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C061E8-2E1D-462E-AF0D-6E3726C75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93D3DE-3521-475B-9ABE-B7744620C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68CAA2-84BC-4900-9498-31DF4B2A1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481203-8FCF-497B-A7DF-A88055D70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BA970D-5F04-49FE-9D93-15ECDFC84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41FC24-FDF8-45DC-ADC5-98E7BD6E0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EFC814-903D-44C3-853F-765B1C2AA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1BD018-0440-435E-960C-FF62193F2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7A78AC-2BEB-452C-85AD-F475BFD13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82E51F-4FA2-4BDD-9EFD-DD9CCEE8D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093065-B679-4F94-8F62-6B83678B5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8846B8-57A4-4D99-B2AD-13E97479E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2193A1-DD85-4C82-8B24-29E529CBF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A1C781-75BB-45A4-A4BA-A7411F04D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784403-38DF-4ECF-A970-97A9E3946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46A72F-BAAF-463D-81BA-1710AC96E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A7E75E-F71E-40BA-9FD0-7E558C08A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051883-E402-44EB-9A89-A711BFE97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F0F16A-9555-4BFF-8642-B274B55DC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24EC91-9A9A-4D5D-962A-5D9A485F1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34A1B5-552F-4DC7-9B50-63415DC00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ED094B-97AB-426E-9B85-DE34251E9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058837-AF17-4233-A1B4-17FF73C59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0D9084-36DF-4766-BEA9-B640D40B0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BB28B1-6465-46B0-96B6-BFB471B62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D17AA8-A3EF-4977-91EC-55A1B73F9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74D3AC-64E7-45B0-8D8F-E535AD1A9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407324-9086-4199-A16E-DF1DCEAFA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3343DE-98F4-450A-8F62-A1D7B52C8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36B0A0-5C4C-4248-9A5C-D2183F027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324910-9D2A-4161-9A98-3A73905B6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AA7A36-C641-412E-B2C2-F2868D16D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0EF6D7-2BAF-4190-98A3-969750DC6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441D31-4375-4F52-8F9C-3B04154A7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6235B2-8FA6-4E6B-B3A6-40DF95F74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A86D0F-4CC3-49C0-A18C-442917FD0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E52E15-84ED-4175-85BB-54E246903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CC0046-C4E5-4128-A0D5-C6150CF33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560770-6AC8-4D89-A42B-03AE34362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CDB116-52A5-46E1-A9F4-F90266669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647EC2-94ED-4062-A5D8-C62CBAE71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B00A9F-EE7E-4FD2-AB8C-253006088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A612A9-6924-4D5A-8241-6E51FAD9A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1623A8-75A3-4148-BC74-923AB964A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8B3FEB-52BA-4CB5-B775-9954F4E82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ACA2C8-52A3-47AB-8DFE-BC7A9B67A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702E64-A7DD-422D-A3A4-56BE6221F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E9BB02-B82F-45F8-9D22-7F7F0FD66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77CADA-C319-4083-B94C-8076ED02B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ECA668-3695-40FF-9A86-9C89A7BB2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5732D8-E203-483D-9B89-89B1B3345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2C1BF7-C674-47C1-98CE-19D2A3A6A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2479DF-29B2-4089-84D5-C2FD6299E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2D366C-3FE5-4D23-8095-72CA59498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14F50C-8BD7-449F-9FAC-303E240E7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C4490F-E5AD-4BFB-80F6-7344D24DD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499B41-F919-4ABA-AC23-AFE9E5116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9015F8-5763-4049-A050-C30DF550E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4DE613-F209-4F17-976D-37DD4958A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379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ABA6E-B39A-4482-9340-0494EFBDAED9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21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41F27-77C2-4FA9-BCB1-55391CD77649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63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31F7E-89C5-4E4F-BFF1-622395EF46ED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1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E0263-181C-4B3A-BCC1-040B5E39646A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83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1B664-C7FD-400B-936B-BA51F350A61A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127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34955-B3C6-47FB-AE1B-54C512B6B620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169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5709A-A472-44EA-B52B-069B17ED14C3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11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16C36-0ACF-42DA-AFD6-846900DDEDE8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53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B9B93-649A-4DA7-87E1-2E5CA20A59D0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95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E936A-8584-422B-9C15-AD7B3B5ABBDD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337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7A88F-E705-4A84-A751-A53F625804D1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TextBox 3"/>
          <p:cNvSpPr/>
          <p:nvPr/>
        </p:nvSpPr>
        <p:spPr>
          <a:xfrm>
            <a:off x="0" y="549360"/>
            <a:ext cx="914400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  <a:ea typeface="Tahoma"/>
              </a:rPr>
              <a:t>Discovering Your Place i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  <a:ea typeface="Tahoma"/>
              </a:rPr>
              <a:t>God’s Plans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(Matthew 5:1-20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TextBox 5"/>
          <p:cNvSpPr/>
          <p:nvPr/>
        </p:nvSpPr>
        <p:spPr>
          <a:xfrm>
            <a:off x="324000" y="2565360"/>
            <a:ext cx="8351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…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what are God’s plans for the world…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…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what’s our place in God’s plans…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TextBox 3"/>
          <p:cNvSpPr/>
          <p:nvPr/>
        </p:nvSpPr>
        <p:spPr>
          <a:xfrm>
            <a:off x="0" y="549360"/>
            <a:ext cx="914400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  <a:ea typeface="Tahoma"/>
              </a:rPr>
              <a:t>Discovering Your Place in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  <a:ea typeface="Tahoma"/>
              </a:rPr>
              <a:t>God’s Plans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(Matthew 5:1-20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TextBox 5"/>
          <p:cNvSpPr/>
          <p:nvPr/>
        </p:nvSpPr>
        <p:spPr>
          <a:xfrm>
            <a:off x="108000" y="2421000"/>
            <a:ext cx="8712000" cy="516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Being salt and light in the 21st century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buClr>
                <a:srgbClr val="ffff99"/>
              </a:buClr>
              <a:buFont typeface="Tahom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Developing the character of Jes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buClr>
                <a:srgbClr val="ffff99"/>
              </a:buClr>
              <a:buFont typeface="Tahom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buClr>
                <a:srgbClr val="ffff99"/>
              </a:buClr>
              <a:buFont typeface="Tahom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Showing the compassion of Jes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buClr>
                <a:srgbClr val="ffff99"/>
              </a:buClr>
              <a:buFont typeface="Tahom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buClr>
                <a:srgbClr val="ffff99"/>
              </a:buClr>
              <a:buFont typeface="Tahom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Sharing the message of Jes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buClr>
                <a:srgbClr val="ffff99"/>
              </a:buClr>
              <a:buFont typeface="Tahom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5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5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5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4T07:25:14Z</dcterms:created>
  <dc:creator>CHRIS BROCKWAY</dc:creator>
  <dc:description/>
  <dc:language>en-US</dc:language>
  <cp:lastModifiedBy>Mary Parker</cp:lastModifiedBy>
  <dcterms:modified xsi:type="dcterms:W3CDTF">2012-01-16T12:51:12Z</dcterms:modified>
  <cp:revision>10</cp:revision>
  <dc:subject/>
  <dc:title>PowerPoint Presentation</dc:title>
</cp:coreProperties>
</file>