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053B1-C979-4D18-8482-E1B73B46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9C1D0-426A-4C14-A3E8-619FF5A9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B02C8-1FA4-40AA-8F46-0166FD57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31F07-79A4-431D-AC0C-E37DBDEC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55348-C4A6-4DE6-B3F0-6972DE81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D9739-F1D5-4B70-9E4B-3B81F5D6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2640F-AFA1-4DE3-95F2-D37B5F6C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82C72-0496-42AF-A782-048B72B2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91AD0-F745-4C65-8227-0B29FF8A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7DE1E-B5BE-4629-8CDA-988F9CCD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E9EBA-ADFE-4971-81C9-3D1A0309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874BE-677B-4806-ADB6-DE578DBA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67041-6119-4241-84DA-69FE1428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3262E-65CA-4014-A26A-D6F72C90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A0FD8-4988-448D-89AC-3C557429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F482E-4C1D-4D5D-9D78-EA30C29F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13742-03F5-4ECF-A67C-9A709E31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E5034-D3F4-40E1-8535-0F46C1DF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8B3E1-B964-4708-AD86-F1EB52A0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8F409-1A21-4BC3-BECE-B2291085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50B15-43FA-4249-A09D-A002F100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C3C42-B5A3-45C0-B93B-8E89FBB4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378B5-66E3-43BD-839F-5C292030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CBEFD-D315-486F-9133-A59AC1A0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A3EEB-A5A2-4F77-A523-14859B34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8CF9B-6067-42AE-9A20-640BEA63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E2ACC-54DC-4FE5-BBA5-43F48596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0C9BB-8C1F-451E-A66C-DB89132E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D3EBF-4649-4482-829A-C05C89B7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630D9-DC8B-4990-BB30-8226937A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9BFE-CD64-4DEC-AC02-8E2AC98C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4B9B7-90E6-48A1-9310-3CDC24B9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CFB0C-8F7C-4F52-8940-AB938419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800BB-3C83-4FA0-880F-5BBADD1C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03151-0C11-41DF-9483-4EB303C9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DC429-2F91-49C6-B3F6-A22C1560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A6748-9EB5-4AFA-84C8-4BA1551B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FE097-8378-48F5-9B45-93A19148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3A64B-6066-4FA0-88E1-84C2CBD9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E43E1-BB26-4825-B170-34974C27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85AA0-2E72-4E8E-B372-186E072E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01DE-F8DE-4138-931C-19ADEAE8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D5F75-EDE1-4343-8CD1-B772D4DF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DBC1E-DF48-4C63-B561-5E302B1B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EEFEF-1C61-437C-91EC-7CF349D2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5B18A-D135-4DD1-9472-7E328228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F6FB1-C080-4832-8883-BA7268C1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6195-DFEB-4EBF-97D5-DE67E93E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468F-5C2C-4FBA-9B37-C52416D3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2744-BADA-46F1-B55C-E3F81175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BC1-E10D-4B81-B98B-1924F740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EDC3-73AD-477A-99AA-61E64DF5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8AED-B690-4CF4-A696-B21C527D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5811-EB19-4DB5-8882-8B8D0CB5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3A8E-C89A-4E00-8173-BA505C94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B7D5-444E-4476-85BC-1F6762E26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0328-68A9-4753-851B-4D95984D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FE0A-1038-47BB-ACA5-5B48F6EF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EB45-4573-4509-AB95-3939A838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6A1A-0C25-4B81-A78A-8ADAAF9C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0315-9664-4D34-9AF8-89099DEF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F4FF-6CD1-4A00-8604-56BE9225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B852-D5DB-48CC-8EBC-7DA35F46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262C-04D7-4DDA-9474-E17643AC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7E0F-399A-4B1A-BB58-D975C246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9D77-C212-46DA-8D96-C9535878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675C-149D-47F2-83BE-FB27E779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84EB-8169-44EF-A523-E26C48D2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C212-19A7-4E15-AF1E-14C164F1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034CF-B24E-4150-8288-BD945CBF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9957B-B577-49B1-AB31-16624709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B1C72-5732-497E-B1F7-6B857FB0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56761-5A2C-4240-B37D-B18AEA19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C868A-963C-4CE4-92F3-235C9A36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1B3E8-2E59-44F6-A135-7D7BC7DC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13269-13B4-49DB-8975-A566BC79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FA68B-2073-4276-9A3D-443AE03B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0D2AC-3545-42D2-BDA3-FFB7E29F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35079-2A16-4AD1-B4EE-B0A13F5C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D5796-9786-40B5-BE2E-8BEB361F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03299-CD2F-4EF1-BEB6-8ADB6D46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BD9BA-CE74-4EE9-AC0D-1AB27A1A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F717C-5A37-4843-B6BE-937FD171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2FBE3-090E-4221-B8FE-5050965E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3A119-4F30-4FCB-B8F0-30F192B5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320FA-9D0B-430A-9244-6B8EB1DB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BBA01-8063-4092-91E0-53F20D0F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26F6B-A083-487D-A2E3-5871C964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E0F4B-DE61-4E77-96B5-50ADE2AE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1CF1C-3860-46C4-A87F-ADE1363A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138B0-1195-43B1-97B5-692B0F29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87DB6-0887-4B8F-B104-83FD6ED1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F2F93-A5BF-4B79-BC8E-348F3F7B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4CECE-4F4C-4429-93C5-F11F43FA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E35A1-02A5-4B1C-B43B-AD1B4564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C09C8-344D-4A31-A8DF-E100201E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B32B5-74CF-4597-AAD5-FAE535BB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51D58-1F81-438F-9C31-2951FDDB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D588B-6DC0-4D1F-9A19-511D831C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07502-D216-412C-BB93-08979CCD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401A7-A1E7-400F-B76F-FA540E17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37B25-7E1C-4077-B146-98D71D3C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6909E-4BF0-4A39-9C91-27C5C7B8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DBD2E-8669-4965-8999-BCC39767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73C8F-7192-485F-911F-1A49395A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2F710-90E4-4C55-A131-B8CA6449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99ACD-B143-4195-9808-9D50C0C7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B52E8-5729-4595-867A-D1B7B1D1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9D905-0101-4636-BB0C-B054CDFF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FF2C3-7E4A-4AA7-A2D7-2B1F3D54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D2F9E-DB6D-4FAE-A611-397F5CB1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90060-61D7-4D10-BA0A-10701D01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38683-7A3F-4CBF-9777-E4FA5A6B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4311B-1728-49D5-A7E1-8E033A08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D3929-1162-4ACE-B6D8-C9A5D6F6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EE98A-8D43-479E-BE56-ABA32CD1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516C3-8542-4793-8755-0E51F18F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C0AB0-DB3D-408D-BB3E-CD931451E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BD91B-6632-457A-8220-62BFFE9C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DE61E-937D-4F08-8E88-15CBC0AA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87903-DC0A-48E0-AAE0-36130A04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FADF6-3A90-41FE-8A6C-74B2305F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14D09-0358-4F5A-B68C-6DFD115A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386B6-4914-4399-97FF-D8C4EE9B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70008-54EF-459D-9FD6-C2E9F6B6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9A185-BFDA-4EC1-BE47-543D01DA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523B9-D5EB-44C4-965F-852858BD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7F672-BE7A-4186-9317-5B2C3842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F696F-31E8-427E-9046-483E4CE1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CD2DD-F0EE-403E-97FF-282097BD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047EE-B213-4382-B5DF-7280244D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ADCB7-EC69-43A4-9B9E-8C1DD377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E7F7-C366-4A52-B579-56E08DC300F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CA41-2FFA-4799-AF50-657210EA72A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3130-EF95-4B32-819F-BD7B379C739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78DA-CBFD-4AF1-B0F5-6BEA2AFFFBD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A74B-BA82-4FAA-ABD3-3E045B7C96A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6AB5-C0EE-4D75-9E3D-7CC66B0F8D2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5BC6-2944-4810-837F-265325A8DC3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61FB-1BA0-41B7-B28C-E172BC2093A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B714-6786-4D4D-AE5E-776952B7EA6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935D-CFA1-47F5-B7A1-BF3E3ED0F7C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DB7D-2621-484A-A597-3E634B88159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844640"/>
            <a:ext cx="7856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Relational Factor: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He says count conversations, not just conver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2 The Narrative Factor: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ir story; share your story; share God’s story; not just propositions or formu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395280" y="184464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3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Communal Factor: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xpect conversion to normally occur in the context of authentic Christian community, not just in the context of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4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Journey Factor:     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o see disciple-making as a holistic process and unending journey, not just a conversion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"/>
          <p:cNvSpPr/>
          <p:nvPr/>
        </p:nvSpPr>
        <p:spPr>
          <a:xfrm>
            <a:off x="395280" y="1844640"/>
            <a:ext cx="7856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Holy Spirit Factor: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lieve that God is at work ‘out there’ in everyone, not just ‘in here’ in the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6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Learning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part of your own discipleship – not just the other person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"/>
          <p:cNvSpPr/>
          <p:nvPr/>
        </p:nvSpPr>
        <p:spPr>
          <a:xfrm>
            <a:off x="395280" y="1844640"/>
            <a:ext cx="78566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Missional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recruiting people for God’s mission on earth and not just people for hea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99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8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Service Factor: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one facet of our identity as servants to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24Z</dcterms:modified>
  <cp:revision>15</cp:revision>
  <dc:subject/>
  <dc:title>PowerPoint Presentation</dc:title>
</cp:coreProperties>
</file>