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258ACA-0279-48E0-B5C0-5C395C49B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0345BC-EE0F-4C98-8525-C607AAA4D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DFDDAA-EF07-4D5C-94F0-AAEE1250E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73F626-687F-4154-AD4A-382898C03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E1F7EF-0F09-4393-A5AE-608302866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FD3C2C-BB57-466B-AA1D-35309BEAD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D180C7-2A8E-4946-80E7-E31E780A0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59B04A-F25B-4D72-8A83-64BE84BEA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8389FB-0B60-4676-A6AF-22E76263A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28B55D-CF50-4F72-A2E4-F9C5A8FEF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77A325-7CF1-4AB8-9968-AD08D9061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407A1E-E047-4C09-B563-A3A16F1E1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76A0E7-67DC-449B-9804-5BD2DBDD0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87D5AC-1D00-4CB0-BC98-4BF4C5F8E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1D4C5A-9768-4451-A281-64CC43A22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F57A14-EC1A-491D-A27A-E1242F76B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ACC74A-5CB5-4C6B-A7A5-18916EFD7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962976-8C75-48A8-87E3-F004EEAC6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3A8DCF-23A5-46C8-9527-AB5C30E5C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EDC21B-B9A4-42B2-A6C5-E2621DE88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E14A59-6EC2-4C89-9E97-6FA403524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A27650-0CDE-40EB-AD30-E48AFE0A4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506AD8-1758-42CB-837E-88CCFE143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017F25-ADD0-44EF-B733-D01212C97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62D2E9-6384-4F32-AAC6-FD7AC10A6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D307D7-657D-4453-81FA-DAF4A6D89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9B1559-50A9-4941-9C79-B03F0772C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DC6573-6848-4CCA-A52E-C166D7FE8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9492CA-96EB-40CF-BDA4-E54CB3D82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39E096-171C-434E-A4AD-0DE0A1BC5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42B2A-60BF-441E-BC05-C8753FD6B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9D4AF4-1202-415F-B700-661ACA695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40DDB3-CB61-4426-8ECD-9D7CE1822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B30E8B-962D-4F87-8618-D646B9699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C96FCB-B809-4C33-B6BB-7E444717C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F20400-DCC8-4477-A5A0-BEDC0AF28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40F7C3-0B29-42F7-9BE6-BA807803E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F011F4-6AA9-4FA2-89CF-52D4538A8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13E55A-9707-49BF-985F-3988D7E88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89E5A7-A85B-4289-AA06-22BD9B8D7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CB8218-E57B-4052-B996-129704D67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F4102-FCE6-4997-9A10-948790D70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98EE98-3B83-47E8-922E-037F8EF66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91ABB1-61DC-4045-8C24-45C372163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9749D5-5248-43DC-9346-9EB2A113C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E00E5A-8009-429E-A529-258830D0C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F7FBDD-9D45-4E9A-94DC-4D888BD13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EDFBF-F8D7-43E4-92E8-254FAE0D4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799AD-B584-4EC8-9D90-4C90182BF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EE6C9-2939-43F2-8084-0472CADC8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2B031-F81F-4F38-BFFF-802D0148F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5C959-789C-4A94-AF31-8EAEE9F72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5792D-E91C-45F9-9D61-AABEB8832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D8F46-3402-4D6C-B493-651FB84EE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9EE29-8E21-4DF2-9EC1-65D5AA624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69BB3-9BA6-4B4F-B89A-C1C207439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48F3F-FDF2-4635-9BC7-CDCE59934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8627B-6D5F-452F-8924-FC474E596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19486-CA64-4F5B-A223-2678988A7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291A4-B449-4329-987C-64AE14912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4055D-8899-4FF1-B6F5-39AAABAA4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54D35-25A3-4B9B-99C1-64FC7A3E2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337D6-5EDF-4D38-9167-8F67D28C8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68F87-9448-4215-B0F2-3838C1139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DD482-E772-4D26-A1DC-C3F9B0945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88ADE-98EA-443A-9F77-CBA7F4EAA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A19DD-608F-4AB6-BB1F-527A0CA3A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C2945-5B09-408F-8CF9-F1A13887E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A4EAF-F960-4CA5-B43A-366662572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B86988-406A-4859-A10E-E8E64D2B0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1C4B5F-F614-4C57-AB78-1D3E201C1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5D9DA9-7FC9-4ECA-95D7-3B84627ED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E4EE90-CE6D-494A-85E9-368268791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5DA08A-2BA3-4513-A130-C329A1E49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E1F5B7-A298-4D60-9FD0-EA9B5A476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58F178-4947-4693-B0CD-8A8206499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6D1A45-45BD-4B2D-B11A-E1D21BD5A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6B3C5B-C91D-454D-8F7A-B2D8875DC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ADD7C7-82A9-4FC6-8A98-D27D0BE7C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07014C-BF84-4AAC-A1FF-4D250E2B4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F46F79-576A-4A38-BFC1-237030B04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F29AC9-5B78-47FF-99F5-0B7E776FD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F6518E-B8B8-4F5D-9800-8DBA86F57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B0D57A-CA2F-4B1A-937F-EDA7C9C2E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204487-CD51-4D17-B67B-DA35850CF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68761E-F9E8-41E9-894E-92EA62844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1E041F-029C-4D92-874D-3D4965BA1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22A5E7-578B-4045-B301-28A304EF6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EE16A5-9AC5-47BC-9134-7CA16283A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CC7EDE-C88C-42DC-BFF0-14D112938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874B8B-D79B-409B-933E-F8ED64CA2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46F457-0ECD-4F5C-A15A-FEA0AFEEB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712ACB-3F28-4EAC-BC8D-22C2CE011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01D6CF-36FC-41E0-9F2F-EF2FCD082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5025AC-7324-4927-A0BE-A0A61CB63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0B3C95-046F-4A17-B678-1F70772B2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6E7400-38DB-425E-BB2F-B29226D03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DDBCF3-A189-4705-9012-3A152B2B9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978C12-A83D-46DB-AD1B-F73DB9E08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39AB3A-2319-4530-A9D8-322D624D0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648659-336C-409F-8109-9E04F14BF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3C970A-D4EF-450A-829C-DA2750620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05CB53-9E45-46DB-AC51-E99E6ADDB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75AE8B-8660-42F2-81EF-FBFA256CC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C28176-1BCE-4AA5-90DD-220301D41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178219-3717-45D8-AA74-3F7EEC7E3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786B5D-E8E1-4846-AC10-38CB69679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B332C3-5FA8-469C-9614-4EF4ABCFC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8A4C25-CA3D-449F-8995-E363EC4E1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1C5C33-E6F3-4BA6-BDBA-0B89D3D5E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9E74D1-B858-405E-975A-D434A43AC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B7550B-428C-4286-9C0C-37236078C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5EBBC9-D550-4CAD-96BF-3DA40AA27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05D798-0BC2-4467-8B73-DFF0D568E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8807F2-B0B9-4FB0-B2A1-757F11174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98C2AB-08F3-4A30-BBA2-95E82DF85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EF46DB-D8D5-4FD3-BFD2-58171402E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BC2A91-EF16-438E-95B5-E2AF75A66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7A176A-3ACA-431A-A566-DB8FB58AF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1FA843-C183-4F2F-B6B9-BC2895E1A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BC678F-BF23-48E2-AE51-3C5EF22FA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7D50CE-9A8F-4BB8-B34E-6589AEC46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70202C-C23F-476F-9DDC-859AD1876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E2DBDD-4515-4A4A-8341-53821CAF4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91F244-5900-4845-AD4B-8950B765D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0577E3-83DA-482B-ADCB-EFB5BFD9D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D088ED-9B9F-4B78-86C5-6341EA746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6CAB89-493A-411D-A0CD-8D9592CF2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225F9D-3201-40AB-96F2-D10FE097A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885A01-EE85-4669-8D14-45D081DF8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7816D5-F633-4565-83A7-0AA6926A0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5F2764-F108-4112-B923-37BFAE367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25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"/>
          <p:cNvSpPr/>
          <p:nvPr/>
        </p:nvSpPr>
        <p:spPr>
          <a:xfrm>
            <a:off x="0" y="6010200"/>
            <a:ext cx="9144000" cy="847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" name="Picture 13" descr="RefocusNoStrapline.jpg"/>
          <p:cNvPicPr/>
          <p:nvPr/>
        </p:nvPicPr>
        <p:blipFill>
          <a:blip r:embed="rId2"/>
          <a:srcRect l="12562" t="0" r="2808" b="25158"/>
          <a:stretch/>
        </p:blipFill>
        <p:spPr>
          <a:xfrm>
            <a:off x="0" y="6010200"/>
            <a:ext cx="1461960" cy="863640"/>
          </a:xfrm>
          <a:prstGeom prst="rect">
            <a:avLst/>
          </a:prstGeom>
          <a:ln w="0">
            <a:noFill/>
          </a:ln>
        </p:spPr>
      </p:pic>
      <p:pic>
        <p:nvPicPr>
          <p:cNvPr id="2" name="Picture 11" descr="CP_logo_8.jpg"/>
          <p:cNvPicPr/>
          <p:nvPr/>
        </p:nvPicPr>
        <p:blipFill>
          <a:blip r:embed="rId3"/>
          <a:stretch/>
        </p:blipFill>
        <p:spPr>
          <a:xfrm>
            <a:off x="7273800" y="6242040"/>
            <a:ext cx="1619280" cy="257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25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1"/>
          <p:cNvSpPr/>
          <p:nvPr/>
        </p:nvSpPr>
        <p:spPr>
          <a:xfrm>
            <a:off x="0" y="6010200"/>
            <a:ext cx="9144000" cy="847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8" name="Picture 13" descr="RefocusNoStrapline.jpg"/>
          <p:cNvPicPr/>
          <p:nvPr/>
        </p:nvPicPr>
        <p:blipFill>
          <a:blip r:embed="rId2"/>
          <a:srcRect l="12562" t="0" r="2808" b="25158"/>
          <a:stretch/>
        </p:blipFill>
        <p:spPr>
          <a:xfrm>
            <a:off x="0" y="6010200"/>
            <a:ext cx="1461960" cy="86364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11" descr="CP_logo_8.jpg"/>
          <p:cNvPicPr/>
          <p:nvPr/>
        </p:nvPicPr>
        <p:blipFill>
          <a:blip r:embed="rId3"/>
          <a:stretch/>
        </p:blipFill>
        <p:spPr>
          <a:xfrm>
            <a:off x="7273800" y="624204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380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5EB09-2497-4E86-943A-A7CD1851551D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25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1"/>
          <p:cNvSpPr/>
          <p:nvPr/>
        </p:nvSpPr>
        <p:spPr>
          <a:xfrm>
            <a:off x="0" y="6010200"/>
            <a:ext cx="9144000" cy="847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0" name="Picture 13" descr="RefocusNoStrapline.jpg"/>
          <p:cNvPicPr/>
          <p:nvPr/>
        </p:nvPicPr>
        <p:blipFill>
          <a:blip r:embed="rId2"/>
          <a:srcRect l="12562" t="0" r="2808" b="25158"/>
          <a:stretch/>
        </p:blipFill>
        <p:spPr>
          <a:xfrm>
            <a:off x="0" y="6010200"/>
            <a:ext cx="1461960" cy="86364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11" descr="CP_logo_8.jpg"/>
          <p:cNvPicPr/>
          <p:nvPr/>
        </p:nvPicPr>
        <p:blipFill>
          <a:blip r:embed="rId3"/>
          <a:stretch/>
        </p:blipFill>
        <p:spPr>
          <a:xfrm>
            <a:off x="7273800" y="624204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22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1F653-EEFE-4857-90B9-7276BC10E1E5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25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1"/>
          <p:cNvSpPr/>
          <p:nvPr/>
        </p:nvSpPr>
        <p:spPr>
          <a:xfrm>
            <a:off x="0" y="6010200"/>
            <a:ext cx="9144000" cy="847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2" name="Picture 13" descr="RefocusNoStrapline.jpg"/>
          <p:cNvPicPr/>
          <p:nvPr/>
        </p:nvPicPr>
        <p:blipFill>
          <a:blip r:embed="rId2"/>
          <a:srcRect l="12562" t="0" r="2808" b="25158"/>
          <a:stretch/>
        </p:blipFill>
        <p:spPr>
          <a:xfrm>
            <a:off x="0" y="6010200"/>
            <a:ext cx="1461960" cy="863640"/>
          </a:xfrm>
          <a:prstGeom prst="rect">
            <a:avLst/>
          </a:prstGeom>
          <a:ln w="0">
            <a:noFill/>
          </a:ln>
        </p:spPr>
      </p:pic>
      <p:pic>
        <p:nvPicPr>
          <p:cNvPr id="463" name="Picture 11" descr="CP_logo_8.jpg"/>
          <p:cNvPicPr/>
          <p:nvPr/>
        </p:nvPicPr>
        <p:blipFill>
          <a:blip r:embed="rId3"/>
          <a:stretch/>
        </p:blipFill>
        <p:spPr>
          <a:xfrm>
            <a:off x="7273800" y="624204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64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CE2CC-F072-4051-9765-3B11D46D3C44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25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Rectangle 1"/>
          <p:cNvSpPr/>
          <p:nvPr/>
        </p:nvSpPr>
        <p:spPr>
          <a:xfrm>
            <a:off x="0" y="6010200"/>
            <a:ext cx="9144000" cy="847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" name="Picture 13" descr="RefocusNoStrapline.jpg"/>
          <p:cNvPicPr/>
          <p:nvPr/>
        </p:nvPicPr>
        <p:blipFill>
          <a:blip r:embed="rId2"/>
          <a:srcRect l="12562" t="0" r="2808" b="25158"/>
          <a:stretch/>
        </p:blipFill>
        <p:spPr>
          <a:xfrm>
            <a:off x="0" y="6010200"/>
            <a:ext cx="1461960" cy="863640"/>
          </a:xfrm>
          <a:prstGeom prst="rect">
            <a:avLst/>
          </a:prstGeom>
          <a:ln w="0">
            <a:noFill/>
          </a:ln>
        </p:spPr>
      </p:pic>
      <p:pic>
        <p:nvPicPr>
          <p:cNvPr id="41" name="Picture 11" descr="CP_logo_8.jpg"/>
          <p:cNvPicPr/>
          <p:nvPr/>
        </p:nvPicPr>
        <p:blipFill>
          <a:blip r:embed="rId3"/>
          <a:stretch/>
        </p:blipFill>
        <p:spPr>
          <a:xfrm>
            <a:off x="7273800" y="624204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B84C0-2770-488F-B656-CFDF4705B017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25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1"/>
          <p:cNvSpPr/>
          <p:nvPr/>
        </p:nvSpPr>
        <p:spPr>
          <a:xfrm>
            <a:off x="0" y="6010200"/>
            <a:ext cx="9144000" cy="847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13" descr="RefocusNoStrapline.jpg"/>
          <p:cNvPicPr/>
          <p:nvPr/>
        </p:nvPicPr>
        <p:blipFill>
          <a:blip r:embed="rId2"/>
          <a:srcRect l="12562" t="0" r="2808" b="25158"/>
          <a:stretch/>
        </p:blipFill>
        <p:spPr>
          <a:xfrm>
            <a:off x="0" y="6010200"/>
            <a:ext cx="1461960" cy="8636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1" descr="CP_logo_8.jpg"/>
          <p:cNvPicPr/>
          <p:nvPr/>
        </p:nvPicPr>
        <p:blipFill>
          <a:blip r:embed="rId3"/>
          <a:stretch/>
        </p:blipFill>
        <p:spPr>
          <a:xfrm>
            <a:off x="7273800" y="624204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B7E52-49D2-4F75-832B-680F321DB3A8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25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0" y="6010200"/>
            <a:ext cx="9144000" cy="847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Picture 13" descr="RefocusNoStrapline.jpg"/>
          <p:cNvPicPr/>
          <p:nvPr/>
        </p:nvPicPr>
        <p:blipFill>
          <a:blip r:embed="rId2"/>
          <a:srcRect l="12562" t="0" r="2808" b="25158"/>
          <a:stretch/>
        </p:blipFill>
        <p:spPr>
          <a:xfrm>
            <a:off x="0" y="6010200"/>
            <a:ext cx="1461960" cy="8636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1" descr="CP_logo_8.jpg"/>
          <p:cNvPicPr/>
          <p:nvPr/>
        </p:nvPicPr>
        <p:blipFill>
          <a:blip r:embed="rId3"/>
          <a:stretch/>
        </p:blipFill>
        <p:spPr>
          <a:xfrm>
            <a:off x="7273800" y="624204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5772C-B021-45CE-9CF6-DAEC7A185828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25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1"/>
          <p:cNvSpPr/>
          <p:nvPr/>
        </p:nvSpPr>
        <p:spPr>
          <a:xfrm>
            <a:off x="0" y="6010200"/>
            <a:ext cx="9144000" cy="847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8" name="Picture 13" descr="RefocusNoStrapline.jpg"/>
          <p:cNvPicPr/>
          <p:nvPr/>
        </p:nvPicPr>
        <p:blipFill>
          <a:blip r:embed="rId2"/>
          <a:srcRect l="12562" t="0" r="2808" b="25158"/>
          <a:stretch/>
        </p:blipFill>
        <p:spPr>
          <a:xfrm>
            <a:off x="0" y="6010200"/>
            <a:ext cx="1461960" cy="86364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1" descr="CP_logo_8.jpg"/>
          <p:cNvPicPr/>
          <p:nvPr/>
        </p:nvPicPr>
        <p:blipFill>
          <a:blip r:embed="rId3"/>
          <a:stretch/>
        </p:blipFill>
        <p:spPr>
          <a:xfrm>
            <a:off x="7273800" y="624204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B413E-7FCA-4E74-BEEC-ABE46BB8E451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25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1"/>
          <p:cNvSpPr/>
          <p:nvPr/>
        </p:nvSpPr>
        <p:spPr>
          <a:xfrm>
            <a:off x="0" y="6010200"/>
            <a:ext cx="9144000" cy="847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13" descr="RefocusNoStrapline.jpg"/>
          <p:cNvPicPr/>
          <p:nvPr/>
        </p:nvPicPr>
        <p:blipFill>
          <a:blip r:embed="rId2"/>
          <a:srcRect l="12562" t="0" r="2808" b="25158"/>
          <a:stretch/>
        </p:blipFill>
        <p:spPr>
          <a:xfrm>
            <a:off x="0" y="6010200"/>
            <a:ext cx="1461960" cy="86364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1" descr="CP_logo_8.jpg"/>
          <p:cNvPicPr/>
          <p:nvPr/>
        </p:nvPicPr>
        <p:blipFill>
          <a:blip r:embed="rId3"/>
          <a:stretch/>
        </p:blipFill>
        <p:spPr>
          <a:xfrm>
            <a:off x="7273800" y="624204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12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2D0A4-CE7F-4EE4-8B0A-BA85E9F61E3C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25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1"/>
          <p:cNvSpPr/>
          <p:nvPr/>
        </p:nvSpPr>
        <p:spPr>
          <a:xfrm>
            <a:off x="0" y="6010200"/>
            <a:ext cx="9144000" cy="847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2" name="Picture 13" descr="RefocusNoStrapline.jpg"/>
          <p:cNvPicPr/>
          <p:nvPr/>
        </p:nvPicPr>
        <p:blipFill>
          <a:blip r:embed="rId2"/>
          <a:srcRect l="12562" t="0" r="2808" b="25158"/>
          <a:stretch/>
        </p:blipFill>
        <p:spPr>
          <a:xfrm>
            <a:off x="0" y="6010200"/>
            <a:ext cx="1461960" cy="86364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11" descr="CP_logo_8.jpg"/>
          <p:cNvPicPr/>
          <p:nvPr/>
        </p:nvPicPr>
        <p:blipFill>
          <a:blip r:embed="rId3"/>
          <a:stretch/>
        </p:blipFill>
        <p:spPr>
          <a:xfrm>
            <a:off x="7273800" y="624204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54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011D4-C198-4302-B065-8290C52234A7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25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1"/>
          <p:cNvSpPr/>
          <p:nvPr/>
        </p:nvSpPr>
        <p:spPr>
          <a:xfrm>
            <a:off x="0" y="6010200"/>
            <a:ext cx="9144000" cy="847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4" name="Picture 13" descr="RefocusNoStrapline.jpg"/>
          <p:cNvPicPr/>
          <p:nvPr/>
        </p:nvPicPr>
        <p:blipFill>
          <a:blip r:embed="rId2"/>
          <a:srcRect l="12562" t="0" r="2808" b="25158"/>
          <a:stretch/>
        </p:blipFill>
        <p:spPr>
          <a:xfrm>
            <a:off x="0" y="6010200"/>
            <a:ext cx="1461960" cy="86364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11" descr="CP_logo_8.jpg"/>
          <p:cNvPicPr/>
          <p:nvPr/>
        </p:nvPicPr>
        <p:blipFill>
          <a:blip r:embed="rId3"/>
          <a:stretch/>
        </p:blipFill>
        <p:spPr>
          <a:xfrm>
            <a:off x="7273800" y="624204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96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76100-6448-4118-885C-C3C87F71BEF2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25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1"/>
          <p:cNvSpPr/>
          <p:nvPr/>
        </p:nvSpPr>
        <p:spPr>
          <a:xfrm>
            <a:off x="0" y="6010200"/>
            <a:ext cx="9144000" cy="847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6" name="Picture 13" descr="RefocusNoStrapline.jpg"/>
          <p:cNvPicPr/>
          <p:nvPr/>
        </p:nvPicPr>
        <p:blipFill>
          <a:blip r:embed="rId2"/>
          <a:srcRect l="12562" t="0" r="2808" b="25158"/>
          <a:stretch/>
        </p:blipFill>
        <p:spPr>
          <a:xfrm>
            <a:off x="0" y="6010200"/>
            <a:ext cx="1461960" cy="86364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11" descr="CP_logo_8.jpg"/>
          <p:cNvPicPr/>
          <p:nvPr/>
        </p:nvPicPr>
        <p:blipFill>
          <a:blip r:embed="rId3"/>
          <a:stretch/>
        </p:blipFill>
        <p:spPr>
          <a:xfrm>
            <a:off x="7273800" y="624204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338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87382-780B-4183-8DE7-1224BC90F54F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3" name="Picture 1" descr="TCWS1.jpg"/>
          <p:cNvPicPr/>
          <p:nvPr/>
        </p:nvPicPr>
        <p:blipFill>
          <a:blip r:embed="rId1"/>
          <a:stretch/>
        </p:blipFill>
        <p:spPr>
          <a:xfrm>
            <a:off x="1471680" y="536400"/>
            <a:ext cx="6238800" cy="438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Picture 2" descr="TCWS2.jpg"/>
          <p:cNvPicPr/>
          <p:nvPr/>
        </p:nvPicPr>
        <p:blipFill>
          <a:blip r:embed="rId1"/>
          <a:stretch/>
        </p:blipFill>
        <p:spPr>
          <a:xfrm>
            <a:off x="1428840" y="536400"/>
            <a:ext cx="6305400" cy="43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1" descr=""/>
          <p:cNvPicPr/>
          <p:nvPr/>
        </p:nvPicPr>
        <p:blipFill>
          <a:blip r:embed="rId1"/>
          <a:stretch/>
        </p:blipFill>
        <p:spPr>
          <a:xfrm>
            <a:off x="1536840" y="536400"/>
            <a:ext cx="6107040" cy="438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6" name="Picture 1" descr=""/>
          <p:cNvPicPr/>
          <p:nvPr/>
        </p:nvPicPr>
        <p:blipFill>
          <a:blip r:embed="rId1"/>
          <a:stretch/>
        </p:blipFill>
        <p:spPr>
          <a:xfrm>
            <a:off x="1577880" y="536400"/>
            <a:ext cx="6026400" cy="438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6T10:25:34Z</dcterms:created>
  <dc:creator>Mary Parker</dc:creator>
  <dc:description/>
  <dc:language>en-US</dc:language>
  <cp:lastModifiedBy>Mary Parker</cp:lastModifiedBy>
  <dcterms:modified xsi:type="dcterms:W3CDTF">2012-01-16T10:41:24Z</dcterms:modified>
  <cp:revision>3</cp:revision>
  <dc:subject/>
  <dc:title>PowerPoint Presentation</dc:title>
</cp:coreProperties>
</file>