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E1FBA-036F-4157-A0A3-CC304492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5333C-8724-4907-A6B1-1A02D5CF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01F3A-7C86-488B-9BE7-B894C37D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AA360-1907-479A-9534-051FFC74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F6DBA-C668-4306-A90A-5961B8FF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49506-5132-4FAB-BCF5-8D5A3DF7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1D5AC-2E83-420B-9E25-AFB61883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43E2B-4E26-4220-9531-55B1CC072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197EF-9F2F-4EB1-835B-20F770F29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820FF0-67A1-496D-8A4C-7C51B90E6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A4295-047A-434E-9F14-2B895FBC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C9DAED-B8EE-44AC-B9D6-F5BE1F7E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8A418-E887-4E57-8774-8B37A9A8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B10F5A-ED28-4D03-921A-7F2201C5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CEEC2F-35A9-44A5-BBA8-F5B6B15A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F58297-964E-4A3B-B98B-07423658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1E9691-86A9-4F5D-918C-3CA4DB26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0C9BD-976D-4444-8F16-DDB03728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D3B388-AC5D-4E96-8015-056BEB9B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AA1D2E-6112-4B45-9062-19D6C0698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0BE3DB-305F-465D-946F-ADF5C2719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6AD7C8-7B20-4C57-BB24-6B8339D7A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374588-6523-479C-9C7E-F6041BE0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B8DB49-B36F-4D76-A8C4-F254AE9F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40C816-E2D3-4369-BE19-9C0D5109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A7452B-DD20-47AC-BD15-36629C94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4B79CA-2992-4067-8B04-6EFE15B5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121F17-BCFE-46E4-8A54-02E713BA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69951A-FEDE-40A2-B1C7-C87CB6AB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F9F09A-9A16-46C8-A68E-0B6A64B9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9651-6BC0-4651-913C-A6E972195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308E59-EB71-42E8-81F9-CC7DB0D7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ABCEDF-0C2B-417A-B70B-76A0D4E9F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DA2F01-FE29-4BA8-BAD7-75F075006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64489F-B438-49C3-A785-AF3FADB93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DF7C95-84C0-4A21-A6A2-E6630B7E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973078-AA18-411C-A17E-7BA14E42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152A0F-D9F6-4E86-9E96-C1385EEC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91E1E8-D0CC-4787-A6D1-D4CC71CD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7E855-5A31-44BD-BD0F-7DB8CBA8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D335E-E3B5-4BBC-82E6-530B4E67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16E6-2256-461C-A5B2-D72CA9B2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AFF8DF-2454-45E1-AEAD-BB98EECD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B986EE-66D4-4AA5-8CAF-60CA01EF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7C9EE-A58B-45AE-ABCB-6DF0086D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1E9A86-DC16-47EE-BFC1-4182F8AC6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DABCD4-B848-41DC-AA45-1755CE533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3C6A-51AC-4461-BB3C-9972427E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9B5B-A275-48C1-9636-AF3CC60F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7A89-2422-4538-80A0-DF3AEE11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129B-7614-49E2-9A6A-E74BE172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9DD0-4275-48BB-88BA-83BBA711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A904-0863-481A-B818-2E8B57E7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7C58-A564-4165-8EC0-ACFC4573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5CF3-6E9E-4067-B363-A23B1FED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B7C0-381D-464F-B12B-A916B752F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100C-F140-4F74-9E59-D5689B91E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764F-792C-4397-8F49-D03792FED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D64F-0ADD-47C1-9F84-12D1041F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77A7-B181-4494-BDCB-A2ED7849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5756-B987-46DA-BEF6-CC614DA2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C53C-4605-4E72-A5DB-7EBFE834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C160-3E48-4AC1-BDD8-3376B4AC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6A7B-0715-4B4C-9ABB-6BF94EC7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DBBA-B96A-435F-AE3B-F10E1F7C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B23D-FB28-49BD-89A4-949499C1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C68A-021A-4A3A-9168-CC1782F3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AE75-4FE5-4569-B018-B7338B095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753D3-F19D-4DAC-B2D3-D1CF47051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DCC48-AD65-44E4-A903-C23B3DD96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47785-10AA-4C7E-90F1-C64CA20F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CE2BA-A543-4C78-9910-7EE6B876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32E55-62FC-45F2-A2B6-2767AA83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83CCD-FDC6-48CB-A0F8-36592F1F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B2FF9-5630-4FA2-BAAC-076D465A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87EE9-6645-462E-A96A-53FAADFB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6A4B6-AE0C-4DD3-9F3B-CFCB449A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81A7E-F8E1-4DEA-B1C5-09C3DBCF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ED054-3212-47E5-B00C-A747D8B3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C052B-DB73-4313-B258-AF64EC4C6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6103D-F2E4-42D3-99F6-56718943A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04B3C-E3A9-41B3-92DB-9E2C98F6B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BA9AC-A84D-4842-AE18-D56A2994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FBF70-31CA-42ED-8216-CDFB6AE3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864F4-7AB5-469D-9C86-F0451553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CD0FF-702B-4380-B25C-A8201114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AE024-A6BD-4108-82A6-74E9747A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39DBB-1D24-4524-B410-692A147E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84DA6-A724-4F48-8E92-F903C92E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EF09A-EAA9-452E-A561-04812CD6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D7ECE-DDA7-461E-B83B-015CBC12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C3F2E-F103-41B6-9D46-49022EB94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11D06-900E-497F-8440-E69038D90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0DBBD-AFDF-4252-B0BE-E3DEF1B10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926E4-C203-407E-B6E5-095984A7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5B913-8E33-485C-88F8-928B3D7F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78FEA-2992-4902-8EA6-2BF07554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4F54C-2ABD-4197-BA13-6784DC18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DBA2B-0012-4EB6-A96A-BAAE767B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9162B-3404-4210-8506-E67019DC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43E91-FC99-4080-87D7-7E4CEA40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21DC6-D5D7-4598-AA87-CCC9E177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C9E52-A092-4D70-9FAE-31FC85B1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EB162-1532-4A91-872A-59F06EADF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E5166-FBD0-411A-8733-F15E29005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D3166-6444-4AE8-BA04-A777ED886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955A6-7784-4982-969B-8A4D01D2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A3B0C-30CB-46F3-90FC-A34142C6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5FD41-7B75-4310-9E06-86358329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A0223-382D-40ED-A56C-D4025612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8ED77-F06E-4DCC-ADA5-7F87722E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A99B9-D830-4753-AFC6-CEE908CA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F273C-FDBD-4630-B4A5-D6114F57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A02E4-4108-4765-AB00-68BB0336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3575B-5FE2-4E08-9627-E45F8442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E15E0-CCFD-49C0-9B70-F4065A2B4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113F4-E5A5-458D-A3F0-234A6A9DB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82AB4-2F5F-495E-8A5D-FAC1BD7A2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8D957-D767-4B24-A0B7-73B6214B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B9FB2-8199-4725-AC76-E51ED5BC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8AFB4-856E-4891-A501-B64764BA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1AFBE-750F-4689-A5CB-09C757A9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5338F-88D3-48B0-A26D-4840A3AF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5C34F-85C9-4F54-B18C-C000FC9F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20856-76A5-4A40-B4F7-96B99FF1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E2D69-A629-48FE-8EB5-33F29EA6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937C1-9E81-47F9-BA5E-D6B72BD5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8C2F0-CDF6-4321-9B0E-91565B7E9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17F67-052D-48D2-A443-63181B07C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4F1EE-0C03-4A07-92F3-179A04F4E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FDAD7-651A-47B9-AC41-A84134B8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00F4E-6B88-4679-AE4D-8986E123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7CF3-9ADF-45EC-A911-1DE24DFC63D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E39E-C25D-4FE8-9060-3DFAEF2A46D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0AD4-1CD9-4C43-8E0D-9F5CD48EFEF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E65D-853B-403E-9CCB-70589F52B60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2959-15A3-4372-9C3A-37497160430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FA01-87A6-48B0-BF4C-CC442E401EC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A234-4837-4C77-BCC4-3F8666EEA16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1C90-35BC-4E37-8024-DBEEC0DF8D5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3375-9388-4C62-8999-5226EBBAA67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9989-4CF2-47A0-ADC0-71DB478F113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719C-1FB7-4D90-9E94-BD6E03FA750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609480" y="2214720"/>
            <a:ext cx="79614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895400" y="500040"/>
            <a:ext cx="539136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660240"/>
            <a:ext cx="578664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3786120" y="428760"/>
            <a:ext cx="2500560" cy="33336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2" descr="\\genesis\Mission\Refocus\Refocus Images\ManWithBoard_Blue.png"/>
          <p:cNvPicPr/>
          <p:nvPr/>
        </p:nvPicPr>
        <p:blipFill>
          <a:blip r:embed="rId2"/>
          <a:stretch/>
        </p:blipFill>
        <p:spPr>
          <a:xfrm>
            <a:off x="357120" y="428760"/>
            <a:ext cx="2500560" cy="33336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3" descr="\\genesis\Mission\Refocus\Refocus Images\ManWithBoard_Red.png"/>
          <p:cNvPicPr/>
          <p:nvPr/>
        </p:nvPicPr>
        <p:blipFill>
          <a:blip r:embed="rId3"/>
          <a:stretch/>
        </p:blipFill>
        <p:spPr>
          <a:xfrm>
            <a:off x="2286000" y="2500200"/>
            <a:ext cx="2982960" cy="39769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4" descr="\\genesis\Mission\Refocus\Refocus Images\ManWithBoard_Green.png"/>
          <p:cNvPicPr/>
          <p:nvPr/>
        </p:nvPicPr>
        <p:blipFill>
          <a:blip r:embed="rId4"/>
          <a:stretch/>
        </p:blipFill>
        <p:spPr>
          <a:xfrm>
            <a:off x="5857920" y="2595600"/>
            <a:ext cx="291132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43:21Z</dcterms:modified>
  <cp:revision>10</cp:revision>
  <dc:subject/>
  <dc:title>PowerPoint Presentation</dc:title>
</cp:coreProperties>
</file>