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7C6B6-E7B2-4134-8334-1E5FF9F0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D8775-BFFD-4ACC-81EA-B7D76BAD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A306E-6782-4FFD-87AE-EA99850B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87DCC-042C-41C6-9CAE-5983DDA9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DDAF8-CE48-40EF-BFFB-A6B199B5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4429C-67D1-4325-92EC-425BE22A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2CC6C-6721-4AAA-86A6-8FCE66A1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72B44-8CE6-4BC1-891E-A1927C73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5F159-2133-441C-BBB9-92F8A831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D6620-39C2-4F5A-9B99-24986CDA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DFE6D-6DDE-41EA-868A-E67240F5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34EFC-253C-4B31-9F10-A6EAEC10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08055-9519-4408-92CD-D88AC49E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83D7C-6B3C-4AA7-BD9B-68D1F9BE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3CF28-A9A1-42E5-BF8F-C60E0DDA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37A30-3365-4D2D-B591-3F3EDD77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82CB4-6BEE-4A88-B147-C41EB6D8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0EB1D-BAAB-4855-B893-8989AF36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FBAA8-7269-421A-936F-F6B7AB89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A1D13-EE0F-4EAA-9AFD-F596B5CD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DA6E8-9B86-45EC-AD1F-24986960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69965-DC67-4A62-8D3D-874A8989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94309-BBA9-4116-800A-5E9BDE47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28F6B-EC3D-49E2-ADC6-8E33F4DE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74EFF-80CD-4A58-918C-501F657A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ED0CC-0082-4396-9093-67ACAB9E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4DA30-DBCB-4BD0-A2F3-623257DD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52B95-5119-46E0-9DD0-7BA9F43C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FED37-0CAD-4A50-8BD9-2410D588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DC2D1-D66A-4B7A-BF53-E79DE104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7DEE-D203-4314-A38D-CBCD6A76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ECDA1-415F-4892-8B5E-1117E030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4C816-80BE-488C-AFA7-D5C29AAC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75E52-72E4-4BE8-A162-359AD728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3F866-0113-4FDA-94C8-99E965BF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2231A-014D-4F2B-9169-D19147CA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6BC29-00C8-4F5B-9B72-9B9C9A36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3143F-CE04-4DE9-8A1A-84AC1B60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E7BF8-0737-450F-B615-A4598BF0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E9BB7-7FA2-4832-8ED9-5C5F8E3B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2635F-011E-4D91-87C6-52132E9D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F2D9-61B4-4D0A-A8C0-702FBBA3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9D367-40E7-4D02-8B87-D24EDBA4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56EBA-BEF3-42F8-B26D-9E017045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99969-D821-412A-8C28-952E40D0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265B7-DE37-4645-A03A-FAF5EFB3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F81C2-98B8-4592-B722-A71B7C8F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0F6B-1E66-446E-8F43-865AD2C1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D11A-FB43-4930-A691-A01EF420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A779-7A84-4032-925B-DE909F55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704F-5D74-4335-85C8-490C5423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6F08-6376-47BB-9A74-6B596131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A209-A6D8-445F-81AD-26231419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6D9A-F152-429D-B487-FB82E0DC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9C12-2F30-4581-B3F1-06358B9F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201-0553-4E99-83DD-DB4733C6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718-24AC-4507-A916-10968F21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2C53-6E26-4DC4-B171-35B8DBDE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9940-412B-4AB4-A358-2DC176F2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0EBB-F50A-4AAF-994F-7C3D3E9A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9468-E49F-4C57-BADB-65B662D5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E839-0748-4022-9698-15C38F1A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E18C-B82A-45C0-849D-A18D1FB4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E70C-068F-4B27-99C9-9120E28B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61E4-40D4-45D9-9984-72C3F867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3A6C-5CC6-4651-8283-EAA9A2D3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2352-4BC5-4FFF-ACF4-55B6DB26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6AC8-1787-49C5-8071-0EDB164D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C42F-E961-48B1-A886-1536D789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B0879-1A75-4AA7-B925-6D02CE7A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ADD28-D18D-4002-8F8A-9B382609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20FF8-7283-4707-B7B2-A47A696E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F34AA-A0EE-4359-87F9-0AB716A6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4EAF8-7193-44FF-B129-451AA48D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F11A3-4251-4AA9-92DD-3756E176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AC189-5CC7-4358-94C9-3239E6A1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E8A4F-399D-4423-A9ED-CBD67B63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29395-C2ED-4B1F-8373-4B1CE49F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33408-A26D-42DA-BBBF-E73964D7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BBAB2-FA57-470C-AE73-77F7178E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ECEDE-85C6-4E42-8F71-2C734E92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B52A6-BFCA-408F-963F-AA41457E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C2746-D5D7-4510-93D1-FABD7FA0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B9808-1A71-46FD-99F9-4F8465DD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17D9F-5252-461E-AA20-9A2603B2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ED4D6-4A61-4B60-A4E2-AF8DAA17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1BC2A-89CE-4ECC-A17F-971937DA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75B28-79D5-463F-88A1-D157C9B8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AB014-5B8C-4297-9A47-D00AE199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7E78C-E7CA-4D83-BB12-423B4BCD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1497E-6B3E-4960-A06A-53F9191D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7305F-B5F7-4931-8FC5-D9BA5E3E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FDDFB-3D14-47A5-8588-BCE9CA01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AF850-51C4-4710-ABC4-DB96B2D9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AA550-7613-4561-A9DA-5034E568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8C20F-A6EC-4A49-AA18-ABCE9574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9006A-2039-4EA6-9D56-E81174BC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5BBB8-18F3-4F42-A07F-F74A0CD3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F7985-A70D-4EE6-B495-9E0AC22B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06AAA-3660-4C48-AEB2-152445A4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FEC2B-939E-48D7-AEA6-AE2F78E7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1ADE7-BCD4-49B1-BFED-C5860276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1BB7D-13D8-49F0-866C-1A94C77F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7B9CB-9E4F-445E-A402-ADB80E8B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9FBAE-1A54-4C10-B3B9-60D3174E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FD91A-A75D-454F-BAAF-6A04453D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3C318-06E1-449B-B46B-E06BFFF4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B4C0C-C941-44D6-A2B7-D7C0E3BD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28671-E258-40A0-829C-69A9E675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30446-C314-4A8E-9632-1D18C372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4806E-7854-451E-9D45-85776A0A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07857-987F-43EF-8826-2750F243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54973-096C-4FCE-819F-2E1B3ADC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D90A5-4C5D-4917-AF90-DB976BE7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2D6FD-CA12-4D0C-A832-9FBEFA1F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A5110-263A-46C1-997D-0EC5E855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78CB3-D227-4306-8A4A-37B5DE7E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707E8-FA07-4820-A837-C6F6D3DA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70838-BCDD-42F5-8A3F-3679A310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543DB-8661-4ED5-8C10-9F13CF8F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94FC3-433C-4B2B-8585-5436279D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16FFB-93EB-41C3-984C-2EE1E189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604FA-4855-4FE3-B38A-99C7A33A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64C8B-241C-4162-9427-FCEA0F4D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A70F2-485D-4EBA-956D-D0E2608E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8ABD1-E469-4897-9C7F-B051F0BC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A1BF9-B620-4233-AA7B-C59A12CA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93A5D-5B47-44FC-93BD-B7AB0357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7C9FC-5292-4FB6-9531-2BAB5D5B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307AC-C327-4EBE-A0D9-423AA2ED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16E5A-D825-4BE0-8689-E4EFB9D7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380DD-2B26-4E00-8187-CBC31873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86C9-2BD2-43C7-8F57-2A25A8BDB67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2E1F-E8E1-459A-A324-EC5FE852D7B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733E-AE7B-4C8D-8B3D-D58DFF53861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A06D-5805-4D5B-AFE3-FC81499AD21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4A64-35F1-43AE-8277-D88A2D00C7E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B635-D849-4E61-8973-AAAA494778B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8917-846F-4E9E-A3C4-112DE14408B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8F0B-F0CE-4484-ADE6-FB89A2825D6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7E44-EEB1-4F82-8D8F-0B43EEED948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C242-CA3A-4EFE-8E74-ADEC35A375B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62D0-30BA-420E-927B-5850BDA3D3C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844640"/>
            <a:ext cx="7856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Relational Factor: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He says count conversations, not just conver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2 The Narrative Factor: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ir story; share your story; share God’s story; not just propositions or formu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395280" y="184464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3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Communal Factor: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xpect conversion to normally occur in the context of authentic Christian community, not just in the context o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4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Journey Factor:     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o see disciple-making as a holistic process and unending journey, not just a conversio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395280" y="1844640"/>
            <a:ext cx="7856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Holy Spirit Factor: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lieve that God is at work ‘out there’ in everyone, not just ‘in here’ in the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Learning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part of your own discipleship – not just the other person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395280" y="1844640"/>
            <a:ext cx="78566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Missional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recruiting people for God’s mission on earth and not just people for 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99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8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Service Factor: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one facet of our identity as servants to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24Z</dcterms:modified>
  <cp:revision>15</cp:revision>
  <dc:subject/>
  <dc:title>PowerPoint Presentation</dc:title>
</cp:coreProperties>
</file>