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3A350-CA2B-4EBD-A0B4-BBD00736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21B1D-22D1-47F8-9468-47069591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40607-DCAD-4173-8DB6-5B0B4F16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EACB5-3937-4AFD-A192-3562342A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C6FF9-6A0C-4CB8-BB0E-3041971E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728BC-D30C-4F35-B6CB-E90AD3EE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79C7B-ACA8-4F3B-A108-58D44C3D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2BDE8-D3B5-40E8-B4BF-2C54C227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C4B31-EB31-4B82-83AF-17BC38D6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B7C22-AC9E-40A0-AF90-2736D10F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EC7F3-A1BF-4194-8E80-9592CA7A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9A258-BFE8-46D5-9802-015BA72D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823BC-D9C8-48C4-93FF-E861DA1A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7417A-B8DA-4704-97E3-ED0B589D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E5991-486A-4AFC-B3AA-8B5EE17A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79ED1-51E2-41B3-93F2-18E4F3F5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2EC02-8D6E-4194-8C83-6E647284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F4CB4-4244-442F-A94E-1D9A67DC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3CFEC-D524-4614-846F-010743CF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054A0-E431-4D9F-B695-DE8FDF4F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2C099-8168-455A-982D-81924925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951C2-6CFA-43F2-9FB0-F5E003B1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64F0D-CF03-46A1-8B4A-8AA68994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83E06-3398-4AE4-BFE8-F16B1D7B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0C419-9FE5-4C72-8AD4-DF5AD699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80427-D71A-4FFE-A2E8-8E70EC83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9EBD9-16DF-4D86-B764-60C2B0CE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B1B26-B176-474A-8455-2D0BB9C1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D3148-B886-4583-BB86-AAEC6902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F2F96-B014-45B6-B7D4-BCCB0664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465A-7C45-4376-B573-467919D9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3FAEA-3E73-468B-AF32-F94DE2A4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99550-0435-47A1-9085-7014DA77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1E546-EB43-4DC8-93D2-54594D5B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26C1D-ABFF-461C-87B4-275CF59E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ADEC8-CE8F-4D86-B490-118B16C3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C9749-A2FD-448B-9813-2577E93B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9CC3B-D0AA-4982-962C-E349EDEC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2CDCB-6918-4E31-B106-9F8CBB66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3B950-BCED-4F2D-A69E-2411B6C7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498D6-CA5D-429E-822E-51EB61F8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8D5C-FA4E-42CA-A420-F788BC11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2BEE7-56CE-4D6C-85A0-546C02B8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180B2-4839-49C9-AD06-E92461C8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20C13-86F0-4E57-80C3-FB962849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F7F17-54B3-4F37-B1F6-27CDC3CC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1A4E0-FD0A-453F-9B3C-089E66EA9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2302-47AD-4239-A135-703C8CE8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BFB3-9038-46C1-A969-242495D7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A4C5-06F5-445A-AC40-6B609EDE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EEAD-EBEF-4EDE-8B80-77064B30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5E1B-BB59-485E-AE50-6CD6C2A8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40B9-4A13-4836-9811-92A4A829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B9F8-0C62-4558-BB4D-B6BDD797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FB94-D6D1-421D-B52C-D7CDB75E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8129-0A66-4912-91BD-0ADAE003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766D-E992-42E5-92C6-AE84299D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A44A-D817-4138-ADB2-401CEC786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348E-4127-4844-B367-46DDB886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356E-DDC8-4DB3-82E9-756E37B5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9866-D39C-4E56-A326-B1662469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B564-B054-411A-B38D-194A6C90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FE11-B0A5-4536-8BA4-F3ADF8BE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E798-287A-49A4-BFED-92307049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E65D-F00E-4A8A-9FD5-B7BF2643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5548-84D0-4C49-AB6C-78001CBE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B284-51ED-4822-A8E2-8C27245B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88DF-B314-48FE-944E-1FA1C110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3294-D070-4CE5-BACE-D6FAE5EC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77D6F-B1BE-45C6-9D71-B4D98FBA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37548-A05F-4D55-BC09-044D8B8C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A5F51-9BCA-47E0-B8BC-DA68FA79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9A472-BFC1-45D2-966B-A8548115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A709E-CB46-4246-892E-008E9B33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D0BC5-FCB4-4945-9CC1-5B46A242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FD3AF-96B2-4963-92FF-98663869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FFBCF-D8F1-4026-B932-A2800872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50284-0B0A-4185-90F7-A0B42625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C4FBE-54F8-4645-858E-4125360A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62A05-A71F-4A5B-94BF-99F77B6F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6835B-2FDE-4FB4-940C-DBE14CD1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867C8-B62C-483F-8AB0-CEFE6A77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66FB5-8B0D-4DB1-BA2A-5E822BA6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A3FF6-1B9A-4CF0-B349-2240A01B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E6F99-6645-41AB-A772-4EEC7C0F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E3AAA-714A-43D9-9831-18B5657E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92C3C-4F06-4338-BCE2-633ACC97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9E723-BE0A-4D7F-B8A7-F8486CE0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5D501-EB6C-4173-95E6-D61E1ED9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B6A54-CE0A-4F2C-A656-931CCB57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48E47-0817-42A5-92EE-36490CB7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5FDD7-12C3-4F8D-9611-35C0ADDD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9748D-2762-4128-B0E1-32B472FC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3E607-E8FF-4EDC-B8D9-8E15AAAA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51F75-6185-4B85-AEFC-5C718684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4DB74-90B7-41F4-AE77-1C5C37BC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38F3A-6812-4868-A519-FFD14E9F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E418A-F5B2-493B-B0A1-9F453452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FE242-BD24-45C1-BEF9-E9115080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3A4BF-ABE5-462C-8700-4B8E1532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CD7A9-03ED-404F-B27A-367A3099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0D6BA-8E50-4C29-96E9-638DE335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E99CE-4B50-4D6E-BE57-46E31A44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A96F2-C17D-4D05-A8CA-775477D9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24CB7-E396-4A18-BFEC-AE174DBC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11C2E-B35F-46ED-B5BE-5BC0A558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74E68-6BD0-4CF0-8943-22A9F0C9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202D7-13BA-4A52-A532-F6E5E443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3A546-87FE-418C-8EA2-6FB9E057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979E6-CCAE-4CB6-9491-92EBD23D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50B6F-48A1-424B-A2C4-2A5870A7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3F428-9C76-4F5A-84C8-DC7CE711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E65A7-861D-448E-BB63-BEAB1B44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E1C1F-1ABB-4E3E-B153-D00FAD5C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55FD8-312A-42BB-A049-C6E5FA41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EC295-6C32-4960-AA23-4F2649C2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CC321-C5D2-4272-B52C-F2756E40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6AB1B-4884-4631-97CA-295F6360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2F667-354D-422C-A325-505866C8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3527C-76C1-4077-A6DA-186BE063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29390-56E0-497E-9FB6-AA13F482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102B8-D99F-49D9-B391-6D5FCB34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4865B-C86A-47BF-AE43-59C64BFA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2EA2B-F760-48C4-A441-E63D2A03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E6BF9-D849-4E68-A587-BEE984DD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ED5A7-7442-4424-B0F8-1C34440C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4F90D-1C78-41E5-BF1C-3E3806B7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AD4DE-3879-42F7-A3DD-F2501712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CCC92-6FC8-4321-8B82-DE4F56B1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D4421-C76E-4CDB-85CC-994538C6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EC725-B0A3-4D5F-8FE2-1FE72E0A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5E790-70BD-4A98-A6D2-3608F008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9C5F-DED2-41B2-826F-FB221F8CD6E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DAF6-FAB9-4323-BE98-8524A2D6C70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5314-3D51-45CF-B282-A72CCD70AED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8CB2-4FB7-4EA0-9EC7-E24C4A48498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42D8-C5A0-4840-AD31-8AD55094445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8636-091A-4D98-8CCB-A3448300ED4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825D-327E-4D71-8988-3C2ADC0E4F6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E63B-184A-450F-A5ED-D769AAC5A4D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EA83-0063-4112-86B0-F47F348B6C1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2381-57AC-4FAC-B4E2-19F1B613265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9A74-4C3B-47C0-8E34-3CBAFA3862E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Re-imagining the Chu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Nehemiah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916280"/>
            <a:ext cx="83534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essons from a Great Leade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 voice and heart of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 clear sense of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3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 a practical strategy for                    achieving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4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Action - individual steps enabled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38Z</dcterms:modified>
  <cp:revision>12</cp:revision>
  <dc:subject/>
  <dc:title>PowerPoint Presentation</dc:title>
</cp:coreProperties>
</file>