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BE67B-480A-4F32-91B2-89645A43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5EF5E-1D4C-426A-867B-D9FF6858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AA490-CE08-4C29-BFF0-8E956060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DEB16-05ED-4370-BEA1-5467D92C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1E7C6-F1FD-483C-B4D7-6C2A482F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CA994-D9B1-4D95-9063-510AC132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AD855-0435-472C-95F2-B4E52C0B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8A2B4-C011-4FAC-9339-7CFD871ED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81880-9847-4442-8259-1269A140A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514333-E299-45C8-8608-86E5C7E50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E1BD6E-D23B-4330-8713-BCAD56C9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CE0EC-71DE-4D84-9FD1-8A6E115E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8E2646-8571-41E0-84CA-1FDB48DA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8DE1AF-DEFC-4832-BCFA-C239F389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857F31-F3CB-4698-882B-018AA74B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09D754-5A6E-49A9-B9DF-D37E1325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3E3398-DCD2-4172-85B2-6670F65A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8E147E-DBB8-4859-8F50-3B6B0DB0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D6F619-BFCC-460A-A959-75187B06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66DEE1-5F01-4118-9E26-94A45022D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77FD9-E372-4A82-A039-6EB43CF21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1E7EAE-AD68-42D1-99AD-F0AF63DC6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C2053D-C84A-4CB1-A2B7-5B7D0FEC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E63661-036C-478E-A50E-4067ED09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5CDA09-2FD7-4090-8D9E-AFA04CCA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8C39D0-BD02-46C1-A955-999C888A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345472-0BC2-4097-8A18-CB7DA5DF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9825FB-5CB7-47A1-9E71-37CC1AE0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979EE3-8F36-4731-AF2C-7465CDB7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82B617-B8BC-40CF-808D-B6D34F24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DF19-1B54-48F3-A5E6-19C2A794E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06FFC4-6B96-4D8D-A35F-4C92A08E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A217CF-B9DF-4BA5-B87E-41D163C1F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44D218-C20D-4346-8EBA-DC20427DE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17D086-114A-441E-9DDF-172C7087A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A1FF7-9842-4B93-A013-BA81780D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7215D-4B47-4DC0-BAF3-0398DD63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12A0D-20BF-4AAE-970C-2D57E6D2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598FE-F9BE-4D6E-9135-7EBA011D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97988-4BBC-449A-A261-028A915F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A5072-904F-4976-B7E2-4C364E37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9FB2-1B54-4A88-88A0-19766765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C295C-A80D-46E3-AE8E-2AF3CA61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62E1B6-65C7-41CE-80C4-B2928D97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99319F-AAED-43F5-83BA-D7EC71E2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4A451-8D59-4B28-A67A-7DBE5EC36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762D72-0DD9-472D-B80B-822FD28D4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A1C4-4088-48CB-AD9B-13CD1C5A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5D83-B0B7-4A72-AAB0-ED156AE5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AD1F-4A85-414D-9492-A10899A2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FDDF-352E-433A-B60A-AFE1E967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496C-3589-4FE8-A060-5C9F5DB0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7862-ABF0-4252-8101-74A7D089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BF47-4398-489F-8D2F-CC956078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053E-5443-46E8-97BD-684E304E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0D7A-63AC-431B-B885-695AD4EC9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C9CA-46D9-4973-9D38-9A499BCA7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C33CF-33FB-48B8-BD53-F81400756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6BC7-7DF7-42F0-95B9-3C9DC107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D739-4819-4260-A0CF-4C5FAE3D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E6F8-8698-4546-8EBA-C292211E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339F-A266-4AFC-B400-798DB02B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C7851-C61D-4DD6-B4E8-712A610C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51A2-30FF-4625-9F81-CCAFF621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2601-0EB6-4222-AD4F-129C97F7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4AE0-D5F7-4385-BADD-915A9425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B7B7-38E6-4038-A37E-55E899F7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CBBA-001E-4CDE-A92B-42DA569EF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9CC2-327D-4B04-A980-9BC3CAC8A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D7CCB-89D7-4BA3-AA21-2C336F7F4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B79D1-B55E-403E-A4B2-18715008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495D7-7E3C-4FDD-B565-880DD938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75C2A-DAA0-4D0F-B4DD-3134DF5F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C5174-004C-4881-8BB2-3C90AABB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4B6E2-3819-4C00-942C-FA32D0AB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A0010-AAD2-43DF-9C13-B4805B96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87965-476A-4AA4-921B-511E6767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F54AA-B870-452F-9E3E-2818ED9C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76A17-074B-4A1E-BA90-8E47E672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E312D-C32F-4147-B34E-4E226A6A6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8AD01-8DA7-40C7-8403-47CF30D03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07FCE-D947-472D-8181-70E301680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D2ED8-50A9-4C17-B184-61821920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87F69-2114-42CA-A743-11DB1C1A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F19D4-4A3F-4245-97E2-706C6EDE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AF7B8-0FDC-492D-98A6-8F47BEC3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7C5E3-8A77-42F4-9D39-C7DCE304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15AEA-83AB-4589-9FE5-4C04B962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C9032-6C2D-4667-BF52-EE36E2F0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C8A03-4848-4875-8CDD-982418AB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4A8E3-8168-4F1E-BA8D-31F8A022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C9559-9754-44A3-8982-3A383356B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5FB92-9B4A-4FC3-9BD6-E52C6F1FE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1D7FB-CA11-4FEE-BE42-0B4C8CDA1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05013-532A-4B8F-8AA4-3C4441E5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B615A-F410-48FE-BFAE-6E2FEBB6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72676-E6A3-4B8D-B550-DA603867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03B8D-B7A0-4330-89DF-1624D482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AAF72-DCED-4656-B2C2-3C9E9832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89EBF-7FA1-4C88-B01C-02DD66F1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32B46-CC02-4DE1-8D1D-021F8049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092FB-D431-4C9F-B80B-C7831911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F3B45-80B5-4FF7-9801-D656D9A2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DA80B-0141-4DEA-B11A-529FFE289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8E619-E3FF-4E1F-B82F-7BE7AEF21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2EFCC-8CEB-431E-B482-B1CBA9859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99537-EDA3-4B6C-A116-FBA916A8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5F6D1-9561-4A56-8D83-F4E51355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EAA73-6BA5-4FF5-801C-819849B3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BDC55-ABC1-48E1-A56E-54532225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8D1BF-FEAA-458F-B4C4-5821ABCD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791EC-D97F-4937-BA42-A4D3850A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2F812-FEE8-4C6C-A022-6FE5893E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88B0B-3493-4A07-8E3A-61FC097F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90373-8A35-4D66-BFE9-7E1A9BB9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D1BDD-5EEE-4E29-B869-D82FAF767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9FAB2-E24C-4C62-B9BD-F19A453D4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6F63F-75E8-48BE-9602-FBA28D899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156F5-0D5D-415D-874D-F05098AA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31CE9-9FEB-4079-97D0-2E4B9ACB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9CCB6-9380-49AF-97D1-51C1FDB5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3D555-D8FF-4EAD-B7DC-F664D907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49AFF-ED24-40D7-A827-27BF3725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154AF-3374-4F75-9A5A-0BECF0C8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65F03-EBE8-4461-901B-2753C7BE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83123-B9CC-4A3B-AEE0-E360BF3F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23F3C-AD20-4A1E-9A13-08FEB702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0A04B-0B93-465F-8176-59A5E90AA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05358-1ED5-4D68-9833-EDBFC84C3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190D6-DDBB-42E6-84B0-435C14154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2A541-D6DB-4BAF-8302-87245F34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884A6-3BD8-4A3F-95E1-16BA5384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CE90-4DDE-4FAE-BA04-B20DA3D26B1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D5DD-6A71-4355-93F4-6CC66DE3D0A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5AF8-5023-403A-9BC6-8137AE7940A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FA3B-BDB0-48E0-8E93-15071A381A6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241C-7F87-41BB-BD1B-39D8DB5E7E9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723A-76D6-43FE-B3C3-D6EFF5D97C7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17E2-04CE-4775-A6A9-163097FDEA6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480D-34BE-43A1-B0E8-5468230DA43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6935-4342-4DF8-B72A-14159BA891E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334A-CAA8-431A-9414-FB6AFCC4C43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354F-64AD-41FF-86BB-7F7BBCC8758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Re-imagining the Chur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Nehemiah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95280" y="1916280"/>
            <a:ext cx="835344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essons from a Great Leader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1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isten to the voice and heart of G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2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stablish a clear sense of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3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Develop a practical strategy for                    achieving his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4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Action - individual steps enabled his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38Z</dcterms:modified>
  <cp:revision>12</cp:revision>
  <dc:subject/>
  <dc:title>PowerPoint Presentation</dc:title>
</cp:coreProperties>
</file>